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3.gif" ContentType="image/gif"/>
  <Override PartName="/ppt/media/image58.jpeg" ContentType="image/jpeg"/>
  <Override PartName="/ppt/media/image56.jpeg" ContentType="image/jpeg"/>
  <Override PartName="/ppt/media/image27.png" ContentType="image/png"/>
  <Override PartName="/ppt/media/image33.jpeg" ContentType="image/jpeg"/>
  <Override PartName="/ppt/media/image37.png" ContentType="image/png"/>
  <Override PartName="/ppt/media/image9.jpeg" ContentType="image/jpeg"/>
  <Override PartName="/ppt/media/image11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64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6.jpeg" ContentType="image/jpeg"/>
  <Override PartName="/ppt/media/image29.png" ContentType="image/png"/>
  <Override PartName="/ppt/media/image63.jpeg" ContentType="image/jpeg"/>
  <Override PartName="/ppt/media/image61.jpeg" ContentType="image/jpeg"/>
  <Override PartName="/ppt/media/image8.wmf" ContentType="image/x-wmf"/>
  <Override PartName="/ppt/media/image26.png" ContentType="image/png"/>
  <Override PartName="/ppt/media/image7.png" ContentType="image/png"/>
  <Override PartName="/ppt/media/image62.jpeg" ContentType="image/jpeg"/>
  <Override PartName="/ppt/media/image19.wmf" ContentType="image/x-wmf"/>
  <Override PartName="/ppt/media/image31.png" ContentType="image/png"/>
  <Override PartName="/ppt/media/image65.jpeg" ContentType="image/jpeg"/>
  <Override PartName="/ppt/media/image38.png" ContentType="image/png"/>
  <Override PartName="/ppt/media/image51.jpeg" ContentType="image/jpeg"/>
  <Override PartName="/ppt/media/image28.jpeg" ContentType="image/jpeg"/>
  <Override PartName="/ppt/media/image20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10.jpeg" ContentType="image/jpeg"/>
  <Override PartName="/ppt/media/image35.jpeg" ContentType="image/jpeg"/>
  <Override PartName="/ppt/media/image36.wmf" ContentType="image/x-wmf"/>
  <Override PartName="/ppt/media/image47.jpeg" ContentType="image/jpeg"/>
  <Override PartName="/ppt/media/image39.jpeg" ContentType="image/jpeg"/>
  <Override PartName="/ppt/media/image17.png" ContentType="image/png"/>
  <Override PartName="/ppt/media/image5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.png" ContentType="image/png"/>
  <Override PartName="/ppt/media/image52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5A8D-601A-48B0-BDC6-EF3EDA5485BD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3B96-180C-4A5F-BDBF-F6444AF22FD9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B9C0-7649-461E-B6F5-D91F2ECA2597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D5A6-8C26-4CEA-A643-A8FCEB51A74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5187-6BC6-41FC-9D4D-23D957B7584B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6EBB-579A-4F36-9BD6-D0BED224AC51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E7E-99AB-4CBB-8649-C11737388B05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B076-742E-4231-ADAD-5AB985D8C84C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2012-B177-45FD-BF92-CD71620C86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EDEB-63D9-4970-A6F3-BAC7187011A2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1B07-7B1B-439C-A565-81C39D13CC63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4E25-2EB8-41F7-9EA9-9AF0D4A76C97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CA03-0699-4AD5-AF71-FE93C11A14DA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ED65-99FA-4660-9A65-DDF2FC8A90B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8F50-CE55-4FA7-8E35-86A5146CB20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521F-8B64-4A0F-BF6B-AFE97EDDABA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729F-13A6-4CFD-919F-78D0177B0ACE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43EC-794A-4520-9473-C2C559785BC8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7DD4-8B26-4639-B3A7-8B939271C73A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013-9B29-4B55-A630-CFF956E7267C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9F48-3871-4FBC-9FCF-971582829448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3F29-242A-427A-8FB7-AB553AD8A1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600-67BA-49BD-B088-AE22E821BFAC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6C5-86D9-4E78-B8C0-55662C447555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15E6-A340-44A2-A794-40580881AE0D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8AD5-6AA8-45E5-A531-C20E1EE92414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0E9F-23EF-4F5F-8E3B-C82215AB1BF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3FC1-A36C-400A-B21D-BCB7793525F6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9199-BF8A-4746-9C3C-C6903A5F95D5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A0BB-261D-4DDF-AA02-B3D1E563A03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A300-F89D-4242-99BB-94404CFB30EA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3309-BE27-498D-AEA0-8B49EE14643A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7DD7-E3C8-4494-AE16-461738EAC03E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8E8D-CCC6-4879-B0F4-B52D8ECCCA8B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38BF-6D1D-463E-AC07-D120677C6479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948B-C335-4ABA-A393-15B88EA095BB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49D2-438C-41E0-A69F-8C0C11470ACD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50B8-99C3-4C53-98E4-58386B19DE28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3A97-A9DA-4004-AA3B-23EF9C8FC4D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94B9-B638-4AF0-9586-FD6634A436D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09D5-DBC5-4AD7-B301-0C211914CEC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BC8C-0AC5-4D72-A8FB-5CE7444F066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9675-B004-4387-A3A7-054142F3974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8334-7FA4-493F-BF4B-96F10DC0E4A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62C8-591F-4A1B-8FC5-B93779F993B7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5302-C7F2-4FA5-BC37-36F227EAF79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8CC2-111D-42CC-8617-F63855250569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5810-0309-4ED1-AF05-A1C2304605DC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F849-B79C-42E3-9622-8129B640831A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51F8-BD78-4A8D-B8DF-CC31BD15B075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B84-26B6-42D8-8D2D-87E13C69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BF5-675C-4BDC-AE73-3A1FA1A2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A3D-7312-4A83-93BC-D4F4DECA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8DC-FB5F-4685-9ED9-D449524E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37E-E6B8-4F14-A849-2027D627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8DB-42F1-4ABB-8F8C-8FAA92D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AEE-14F6-411E-938C-299DB996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C4C-8C2B-4CB0-8F8D-0E289DBF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7C9-061C-4DEB-92B0-10E2BDE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25E-9DB3-4A94-89FC-D29A6A79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CB3-0306-4119-B3BC-564C2117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477-35BA-471A-8BC5-19DD5DB0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E9B2-AC96-4F93-A536-080C3A20A9DF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Електростатика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улонов закон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улоновске интеракциј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ларни и неполарни молекули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585920" y="647712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дељ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714920"/>
            <a:ext cx="64008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3/24.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0666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685800" y="42670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3"/>
          <p:cNvSpPr/>
          <p:nvPr/>
        </p:nvSpPr>
        <p:spPr>
          <a:xfrm>
            <a:off x="2819520" y="2286000"/>
            <a:ext cx="3354120" cy="167796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2113" h="1057">
                <a:moveTo>
                  <a:pt x="0" y="418"/>
                </a:moveTo>
                <a:lnTo>
                  <a:pt x="58" y="376"/>
                </a:lnTo>
                <a:lnTo>
                  <a:pt x="143" y="358"/>
                </a:lnTo>
                <a:lnTo>
                  <a:pt x="227" y="322"/>
                </a:lnTo>
                <a:lnTo>
                  <a:pt x="275" y="285"/>
                </a:lnTo>
                <a:lnTo>
                  <a:pt x="311" y="285"/>
                </a:lnTo>
                <a:lnTo>
                  <a:pt x="395" y="233"/>
                </a:lnTo>
                <a:lnTo>
                  <a:pt x="479" y="233"/>
                </a:lnTo>
                <a:lnTo>
                  <a:pt x="563" y="233"/>
                </a:lnTo>
                <a:lnTo>
                  <a:pt x="719" y="233"/>
                </a:lnTo>
                <a:lnTo>
                  <a:pt x="779" y="233"/>
                </a:lnTo>
                <a:lnTo>
                  <a:pt x="815" y="233"/>
                </a:lnTo>
                <a:lnTo>
                  <a:pt x="947" y="233"/>
                </a:lnTo>
                <a:lnTo>
                  <a:pt x="1007" y="233"/>
                </a:lnTo>
                <a:lnTo>
                  <a:pt x="1055" y="233"/>
                </a:lnTo>
                <a:lnTo>
                  <a:pt x="1091" y="196"/>
                </a:lnTo>
                <a:lnTo>
                  <a:pt x="1151" y="161"/>
                </a:lnTo>
                <a:lnTo>
                  <a:pt x="1199" y="161"/>
                </a:lnTo>
                <a:lnTo>
                  <a:pt x="1235" y="125"/>
                </a:lnTo>
                <a:lnTo>
                  <a:pt x="1283" y="107"/>
                </a:lnTo>
                <a:lnTo>
                  <a:pt x="1320" y="107"/>
                </a:lnTo>
                <a:lnTo>
                  <a:pt x="1367" y="72"/>
                </a:lnTo>
                <a:lnTo>
                  <a:pt x="1403" y="35"/>
                </a:lnTo>
                <a:lnTo>
                  <a:pt x="1475" y="35"/>
                </a:lnTo>
                <a:lnTo>
                  <a:pt x="1511" y="0"/>
                </a:lnTo>
                <a:lnTo>
                  <a:pt x="1535" y="53"/>
                </a:lnTo>
                <a:lnTo>
                  <a:pt x="2112" y="544"/>
                </a:lnTo>
                <a:lnTo>
                  <a:pt x="2087" y="590"/>
                </a:lnTo>
                <a:lnTo>
                  <a:pt x="2027" y="644"/>
                </a:lnTo>
                <a:lnTo>
                  <a:pt x="2003" y="680"/>
                </a:lnTo>
                <a:lnTo>
                  <a:pt x="1967" y="716"/>
                </a:lnTo>
                <a:lnTo>
                  <a:pt x="1919" y="751"/>
                </a:lnTo>
                <a:lnTo>
                  <a:pt x="1859" y="770"/>
                </a:lnTo>
                <a:lnTo>
                  <a:pt x="1799" y="770"/>
                </a:lnTo>
                <a:lnTo>
                  <a:pt x="1752" y="770"/>
                </a:lnTo>
                <a:lnTo>
                  <a:pt x="1691" y="805"/>
                </a:lnTo>
                <a:lnTo>
                  <a:pt x="1631" y="805"/>
                </a:lnTo>
                <a:lnTo>
                  <a:pt x="1584" y="840"/>
                </a:lnTo>
                <a:lnTo>
                  <a:pt x="1547" y="840"/>
                </a:lnTo>
                <a:lnTo>
                  <a:pt x="1523" y="840"/>
                </a:lnTo>
                <a:lnTo>
                  <a:pt x="1463" y="840"/>
                </a:lnTo>
                <a:lnTo>
                  <a:pt x="1391" y="877"/>
                </a:lnTo>
                <a:lnTo>
                  <a:pt x="1355" y="877"/>
                </a:lnTo>
                <a:lnTo>
                  <a:pt x="1295" y="877"/>
                </a:lnTo>
                <a:lnTo>
                  <a:pt x="1247" y="877"/>
                </a:lnTo>
                <a:lnTo>
                  <a:pt x="1211" y="894"/>
                </a:lnTo>
                <a:lnTo>
                  <a:pt x="1187" y="894"/>
                </a:lnTo>
                <a:lnTo>
                  <a:pt x="1127" y="894"/>
                </a:lnTo>
                <a:lnTo>
                  <a:pt x="1079" y="894"/>
                </a:lnTo>
                <a:lnTo>
                  <a:pt x="1043" y="894"/>
                </a:lnTo>
                <a:lnTo>
                  <a:pt x="995" y="894"/>
                </a:lnTo>
                <a:lnTo>
                  <a:pt x="935" y="931"/>
                </a:lnTo>
                <a:lnTo>
                  <a:pt x="851" y="931"/>
                </a:lnTo>
                <a:lnTo>
                  <a:pt x="791" y="966"/>
                </a:lnTo>
                <a:lnTo>
                  <a:pt x="743" y="1002"/>
                </a:lnTo>
                <a:lnTo>
                  <a:pt x="707" y="1002"/>
                </a:lnTo>
                <a:lnTo>
                  <a:pt x="623" y="1020"/>
                </a:lnTo>
                <a:lnTo>
                  <a:pt x="575" y="1020"/>
                </a:lnTo>
                <a:lnTo>
                  <a:pt x="539" y="1056"/>
                </a:lnTo>
                <a:lnTo>
                  <a:pt x="467" y="1056"/>
                </a:lnTo>
                <a:lnTo>
                  <a:pt x="431" y="1056"/>
                </a:lnTo>
                <a:lnTo>
                  <a:pt x="371" y="1056"/>
                </a:lnTo>
                <a:lnTo>
                  <a:pt x="323" y="1056"/>
                </a:lnTo>
                <a:lnTo>
                  <a:pt x="299" y="1056"/>
                </a:lnTo>
                <a:lnTo>
                  <a:pt x="0" y="41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f6f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857560" y="2577960"/>
            <a:ext cx="101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с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2825640" y="2521080"/>
            <a:ext cx="52092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2819520" y="2590920"/>
            <a:ext cx="761760" cy="14475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3352680" y="2590920"/>
            <a:ext cx="762120" cy="14475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3587760" y="3816360"/>
            <a:ext cx="520560" cy="291960"/>
          </a:xfrm>
          <a:prstGeom prst="ellipse">
            <a:avLst/>
          </a:prstGeom>
          <a:solidFill>
            <a:srgbClr val="f4557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1"/>
          <p:cNvGrpSpPr/>
          <p:nvPr/>
        </p:nvGrpSpPr>
        <p:grpSpPr>
          <a:xfrm>
            <a:off x="2819520" y="2590920"/>
            <a:ext cx="2805840" cy="1844280"/>
            <a:chOff x="2819520" y="2590920"/>
            <a:chExt cx="2805840" cy="1844280"/>
          </a:xfrm>
        </p:grpSpPr>
        <p:sp>
          <p:nvSpPr>
            <p:cNvPr id="128" name="Freeform 19"/>
            <p:cNvSpPr/>
            <p:nvPr/>
          </p:nvSpPr>
          <p:spPr>
            <a:xfrm>
              <a:off x="2819520" y="2590920"/>
              <a:ext cx="1296720" cy="144936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817" h="913">
                  <a:moveTo>
                    <a:pt x="0" y="0"/>
                  </a:moveTo>
                  <a:lnTo>
                    <a:pt x="480" y="912"/>
                  </a:lnTo>
                  <a:lnTo>
                    <a:pt x="816" y="864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4864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575520" y="4071960"/>
              <a:ext cx="204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С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таклени штап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2"/>
          <p:cNvSpPr/>
          <p:nvPr/>
        </p:nvSpPr>
        <p:spPr>
          <a:xfrm>
            <a:off x="5014440" y="317196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2957400" y="241128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3110040" y="263988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3262320" y="294480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3414600" y="317340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3567240" y="34765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2059560" y="5091120"/>
            <a:ext cx="464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И стакло и свила су изолато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5319720" y="2668680"/>
            <a:ext cx="39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4480920" y="263988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3871440" y="2792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2"/>
          <p:cNvSpPr/>
          <p:nvPr/>
        </p:nvSpPr>
        <p:spPr>
          <a:xfrm>
            <a:off x="4252320" y="30211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571840" y="500040"/>
            <a:ext cx="12142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 rot="20059200">
            <a:off x="1533600" y="3384360"/>
            <a:ext cx="314460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061040" y="428760"/>
            <a:ext cx="1214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 rot="20715000">
            <a:off x="6024240" y="3312720"/>
            <a:ext cx="314316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 rot="20059200">
            <a:off x="1104480" y="4689000"/>
            <a:ext cx="1924200" cy="265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rved Left Arrow 11"/>
          <p:cNvSpPr/>
          <p:nvPr/>
        </p:nvSpPr>
        <p:spPr>
          <a:xfrm>
            <a:off x="2857680" y="2000160"/>
            <a:ext cx="642600" cy="571680"/>
          </a:xfrm>
          <a:custGeom>
            <a:avLst/>
            <a:gdLst>
              <a:gd name="textAreaLeft" fmla="*/ 86040 w 642600"/>
              <a:gd name="textAreaRight" fmla="*/ 556560 w 642600"/>
              <a:gd name="textAreaTop" fmla="*/ 89280 h 571680"/>
              <a:gd name="textAreaBottom" fmla="*/ 4111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33697"/>
                <a:lnTo>
                  <a:pt x="4800" y="21431"/>
                </a:lnTo>
                <a:lnTo>
                  <a:pt x="0" y="16200"/>
                </a:lnTo>
                <a:lnTo>
                  <a:pt x="4800" y="10631"/>
                </a:lnTo>
                <a:lnTo>
                  <a:pt x="4800" y="13331"/>
                </a:lnTo>
                <a:arcTo wR="21600" hR="6750" stAng="3233697" swAng="-276771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2"/>
          <p:cNvSpPr/>
          <p:nvPr/>
        </p:nvSpPr>
        <p:spPr>
          <a:xfrm flipH="1">
            <a:off x="3071520" y="1000080"/>
            <a:ext cx="34920" cy="235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rved Right Arrow 13"/>
          <p:cNvSpPr/>
          <p:nvPr/>
        </p:nvSpPr>
        <p:spPr>
          <a:xfrm>
            <a:off x="7275600" y="2000160"/>
            <a:ext cx="642960" cy="500040"/>
          </a:xfrm>
          <a:custGeom>
            <a:avLst/>
            <a:gdLst>
              <a:gd name="textAreaLeft" fmla="*/ 86040 w 642960"/>
              <a:gd name="textAreaRight" fmla="*/ 556920 w 642960"/>
              <a:gd name="textAreaTop" fmla="*/ 78120 h 500040"/>
              <a:gd name="textAreaBottom" fmla="*/ 35964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456711"/>
                <a:lnTo>
                  <a:pt x="17400" y="21471"/>
                </a:lnTo>
                <a:lnTo>
                  <a:pt x="21600" y="16200"/>
                </a:lnTo>
                <a:lnTo>
                  <a:pt x="17400" y="10671"/>
                </a:lnTo>
                <a:lnTo>
                  <a:pt x="17400" y="13371"/>
                </a:lnTo>
                <a:arcTo wR="21600" hR="6750" stAng="7343289" swAng="299072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4"/>
          <p:cNvSpPr/>
          <p:nvPr/>
        </p:nvSpPr>
        <p:spPr>
          <a:xfrm flipH="1">
            <a:off x="7632360" y="928800"/>
            <a:ext cx="36360" cy="235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2216880" y="3571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25027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2788560" y="3357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2073960" y="3786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1716840" y="38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4"/>
          <p:cNvSpPr/>
          <p:nvPr/>
        </p:nvSpPr>
        <p:spPr>
          <a:xfrm>
            <a:off x="1473840" y="485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5"/>
          <p:cNvSpPr/>
          <p:nvPr/>
        </p:nvSpPr>
        <p:spPr>
          <a:xfrm>
            <a:off x="2045520" y="464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6"/>
          <p:cNvSpPr/>
          <p:nvPr/>
        </p:nvSpPr>
        <p:spPr>
          <a:xfrm>
            <a:off x="1759680" y="4714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7"/>
          <p:cNvSpPr/>
          <p:nvPr/>
        </p:nvSpPr>
        <p:spPr>
          <a:xfrm>
            <a:off x="2688480" y="428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2402640" y="43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2188440" y="450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31"/>
          <p:cNvCxnSpPr>
            <a:stCxn id="153" idx="0"/>
          </p:cNvCxnSpPr>
          <p:nvPr/>
        </p:nvCxnSpPr>
        <p:spPr>
          <a:xfrm flipH="1" flipV="1">
            <a:off x="1642320" y="3214080"/>
            <a:ext cx="578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2" name="TextBox 32"/>
          <p:cNvSpPr/>
          <p:nvPr/>
        </p:nvSpPr>
        <p:spPr>
          <a:xfrm>
            <a:off x="61063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 rot="20059200">
            <a:off x="6237000" y="4546080"/>
            <a:ext cx="1923840" cy="265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4"/>
          <p:cNvSpPr/>
          <p:nvPr/>
        </p:nvSpPr>
        <p:spPr>
          <a:xfrm>
            <a:off x="642060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5"/>
          <p:cNvSpPr/>
          <p:nvPr/>
        </p:nvSpPr>
        <p:spPr>
          <a:xfrm>
            <a:off x="670644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7"/>
          <p:cNvSpPr/>
          <p:nvPr/>
        </p:nvSpPr>
        <p:spPr>
          <a:xfrm>
            <a:off x="710640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6849000" y="464328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7206480" y="3286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44"/>
          <p:cNvCxnSpPr/>
          <p:nvPr/>
        </p:nvCxnSpPr>
        <p:spPr>
          <a:xfrm flipH="1" flipV="1">
            <a:off x="6989040" y="4214520"/>
            <a:ext cx="14364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Straight Arrow Connector 45"/>
          <p:cNvCxnSpPr/>
          <p:nvPr/>
        </p:nvCxnSpPr>
        <p:spPr>
          <a:xfrm>
            <a:off x="6845760" y="3786120"/>
            <a:ext cx="144720" cy="426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1" name="TextBox 48"/>
          <p:cNvSpPr/>
          <p:nvPr/>
        </p:nvSpPr>
        <p:spPr>
          <a:xfrm>
            <a:off x="3361680" y="235728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к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3218760" y="40719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к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6494040" y="29289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к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7924320" y="46432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Плас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7134840" y="435780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7349040" y="435780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6563160" y="47149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5"/>
          <p:cNvSpPr/>
          <p:nvPr/>
        </p:nvSpPr>
        <p:spPr>
          <a:xfrm>
            <a:off x="7706160" y="407196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6"/>
          <p:cNvSpPr/>
          <p:nvPr/>
        </p:nvSpPr>
        <p:spPr>
          <a:xfrm>
            <a:off x="7563600" y="421488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8"/>
          <p:cNvSpPr/>
          <p:nvPr/>
        </p:nvSpPr>
        <p:spPr>
          <a:xfrm>
            <a:off x="6420600" y="485784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9"/>
          <p:cNvSpPr/>
          <p:nvPr/>
        </p:nvSpPr>
        <p:spPr>
          <a:xfrm>
            <a:off x="7135200" y="40719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0"/>
          <p:cNvSpPr/>
          <p:nvPr/>
        </p:nvSpPr>
        <p:spPr>
          <a:xfrm>
            <a:off x="1359720" y="4500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1"/>
          <p:cNvSpPr/>
          <p:nvPr/>
        </p:nvSpPr>
        <p:spPr>
          <a:xfrm>
            <a:off x="1574280" y="2786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62"/>
          <p:cNvCxnSpPr/>
          <p:nvPr/>
        </p:nvCxnSpPr>
        <p:spPr>
          <a:xfrm>
            <a:off x="2857320" y="4571640"/>
            <a:ext cx="486360" cy="602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5" name="TextBox 66"/>
          <p:cNvSpPr/>
          <p:nvPr/>
        </p:nvSpPr>
        <p:spPr>
          <a:xfrm>
            <a:off x="6420960" y="38577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8"/>
          <p:cNvSpPr/>
          <p:nvPr/>
        </p:nvSpPr>
        <p:spPr>
          <a:xfrm>
            <a:off x="0" y="56577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Штапићи су наелектрисани трењем са крзном, електрони су у случају стакла прешли са стакла на крзно, а у случају пластике са крзна на штапић, дошло је до раздвајања наелектрис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0" y="114300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79f"/>
                </a:solidFill>
                <a:latin typeface="Arial"/>
                <a:ea typeface="Arial"/>
              </a:rPr>
              <a:t>Два позитивно наелектрисана тела ће се одбиј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286160" y="92880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79f"/>
                </a:solidFill>
                <a:latin typeface="Arial"/>
                <a:ea typeface="Arial"/>
              </a:rPr>
              <a:t>Два  супротно  наелектрисана тела ће се привлач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285840" y="395280"/>
            <a:ext cx="885816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ада се наелектрисана тела налазе у релативном мировању међу њима дејствује  електростатич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лонова сил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а која су наелектрисана истоименим наелектрисањем се одбијају, позитивно наелектрисано тело ће одбијати друго тело које је такође позитивно наелектрисано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а која су наелектрисана супротним наелектрисањем се  привлаче, а позитивно наелектрисано тело ће привлачити тело  које је негативно наелектрис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928800" y="157176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Материјали се по својим електричним особинама деле на: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ОЛАТ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ВОД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ОЛУПРОВОДН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улонов зако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улонов закон квантитативно карактерише узајамно дејство два непокретна тела –чести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0" y="142884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ве наелектрисане честице које имају укупна наелектрисања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 и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i="1" lang="sr-C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 које се налазе на растојањ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ће међусобно интерагова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4143240" y="4179960"/>
            <a:ext cx="500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ила која делује између две наелектрисане честице сразмерна је њиховим количинама наелектрисања а  обрнуто је сразмерна квадрату њиховог растој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4857840" y="235728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. Наелектрисање истог знака: ОДБИЈ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4857840" y="32148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2. Наелектрисање супротног знака: ПРИВЛАЧЕ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8"/>
          <p:cNvGrpSpPr/>
          <p:nvPr/>
        </p:nvGrpSpPr>
        <p:grpSpPr>
          <a:xfrm>
            <a:off x="10080" y="2714760"/>
            <a:ext cx="4952880" cy="2373840"/>
            <a:chOff x="10080" y="2714760"/>
            <a:chExt cx="4952880" cy="2373840"/>
          </a:xfrm>
        </p:grpSpPr>
        <p:sp>
          <p:nvSpPr>
            <p:cNvPr id="197" name="Oval 6"/>
            <p:cNvSpPr/>
            <p:nvPr/>
          </p:nvSpPr>
          <p:spPr>
            <a:xfrm>
              <a:off x="1214280" y="3357720"/>
              <a:ext cx="274320" cy="2743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3500280" y="3357720"/>
              <a:ext cx="274320" cy="2743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Straight Arrow Connector 8"/>
            <p:cNvCxnSpPr/>
            <p:nvPr/>
          </p:nvCxnSpPr>
          <p:spPr>
            <a:xfrm>
              <a:off x="1500120" y="3714840"/>
              <a:ext cx="2000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Oval 9"/>
            <p:cNvSpPr/>
            <p:nvPr/>
          </p:nvSpPr>
          <p:spPr>
            <a:xfrm>
              <a:off x="1285920" y="4286520"/>
              <a:ext cx="274320" cy="2743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0"/>
            <p:cNvSpPr/>
            <p:nvPr/>
          </p:nvSpPr>
          <p:spPr>
            <a:xfrm>
              <a:off x="3571920" y="4286520"/>
              <a:ext cx="274320" cy="2743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Straight Arrow Connector 11"/>
            <p:cNvCxnSpPr/>
            <p:nvPr/>
          </p:nvCxnSpPr>
          <p:spPr>
            <a:xfrm>
              <a:off x="1571400" y="4643640"/>
              <a:ext cx="2000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3" name="Rectangle 12"/>
            <p:cNvSpPr/>
            <p:nvPr/>
          </p:nvSpPr>
          <p:spPr>
            <a:xfrm>
              <a:off x="1153080" y="285732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3370320" y="371484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C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4"/>
            <p:cNvSpPr/>
            <p:nvPr/>
          </p:nvSpPr>
          <p:spPr>
            <a:xfrm>
              <a:off x="3370320" y="278604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C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5"/>
            <p:cNvSpPr/>
            <p:nvPr/>
          </p:nvSpPr>
          <p:spPr>
            <a:xfrm>
              <a:off x="1153080" y="371484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0"/>
            <p:cNvSpPr/>
            <p:nvPr/>
          </p:nvSpPr>
          <p:spPr>
            <a:xfrm>
              <a:off x="2286000" y="2714760"/>
              <a:ext cx="357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1"/>
            <p:cNvSpPr/>
            <p:nvPr/>
          </p:nvSpPr>
          <p:spPr>
            <a:xfrm>
              <a:off x="2357280" y="3714840"/>
              <a:ext cx="357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8"/>
            <p:cNvCxnSpPr>
              <a:stCxn id="200" idx="6"/>
            </p:cNvCxnSpPr>
            <p:nvPr/>
          </p:nvCxnSpPr>
          <p:spPr>
            <a:xfrm>
              <a:off x="1560240" y="4422600"/>
              <a:ext cx="58320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10" name="Straight Arrow Connector 19"/>
            <p:cNvCxnSpPr>
              <a:stCxn id="201" idx="2"/>
            </p:cNvCxnSpPr>
            <p:nvPr/>
          </p:nvCxnSpPr>
          <p:spPr>
            <a:xfrm flipH="1">
              <a:off x="2928960" y="4421880"/>
              <a:ext cx="6433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11" name="Straight Arrow Connector 20"/>
            <p:cNvCxnSpPr>
              <a:stCxn id="198" idx="6"/>
            </p:cNvCxnSpPr>
            <p:nvPr/>
          </p:nvCxnSpPr>
          <p:spPr>
            <a:xfrm>
              <a:off x="3774960" y="3493800"/>
              <a:ext cx="65448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12" name="Straight Arrow Connector 21"/>
            <p:cNvCxnSpPr>
              <a:stCxn id="197" idx="2"/>
            </p:cNvCxnSpPr>
            <p:nvPr/>
          </p:nvCxnSpPr>
          <p:spPr>
            <a:xfrm flipH="1">
              <a:off x="571320" y="3493080"/>
              <a:ext cx="6433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13" name="Rectangle 24"/>
            <p:cNvSpPr/>
            <p:nvPr/>
          </p:nvSpPr>
          <p:spPr>
            <a:xfrm>
              <a:off x="10080" y="3143160"/>
              <a:ext cx="633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-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4438080" y="3214800"/>
              <a:ext cx="524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6"/>
            <p:cNvSpPr/>
            <p:nvPr/>
          </p:nvSpPr>
          <p:spPr>
            <a:xfrm>
              <a:off x="1581480" y="3929040"/>
              <a:ext cx="633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-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7"/>
            <p:cNvSpPr/>
            <p:nvPr/>
          </p:nvSpPr>
          <p:spPr>
            <a:xfrm>
              <a:off x="3009240" y="3857760"/>
              <a:ext cx="524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714240" y="5072040"/>
                <a:ext cx="28022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357120" y="0"/>
                <a:ext cx="2724120" cy="31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Rectangle 53"/>
          <p:cNvSpPr/>
          <p:nvPr/>
        </p:nvSpPr>
        <p:spPr>
          <a:xfrm>
            <a:off x="3071880" y="0"/>
            <a:ext cx="607212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е је елементарно наелектрисање електро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e= 1.602 ×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−19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z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 наелектрисање чест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2357280" y="171468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јединица за наелектрисање је Куло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1 C = 6.25 ×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500040" y="3429000"/>
                <a:ext cx="29512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Rectangle 6"/>
          <p:cNvSpPr/>
          <p:nvPr/>
        </p:nvSpPr>
        <p:spPr>
          <a:xfrm>
            <a:off x="5592240" y="3429000"/>
            <a:ext cx="300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  к</a:t>
            </a:r>
            <a:r>
              <a:rPr b="1" lang="sr-C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57760" y="3929040"/>
                <a:ext cx="52862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9 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/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8"/>
          <p:cNvSpPr/>
          <p:nvPr/>
        </p:nvSpPr>
        <p:spPr>
          <a:xfrm>
            <a:off x="357120" y="5429160"/>
            <a:ext cx="878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ична пропустљивост  (пермитивност)  у вакууму и једнака је 8.85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×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J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ЈОН- ЈОН Електроста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ичка интера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722160" y="4795920"/>
                <a:ext cx="77709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357120" y="2173320"/>
                <a:ext cx="2786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alignl</m:t>
                    </m:r>
                    <m:sSub>
                      <m:e>
                        <m:eqArr>
                          <m:e>
                            <m:r>
                              <m:t xml:space="preserve">e</m:t>
                            </m:r>
                          </m:e>
                        </m:eqAr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TextBox 8"/>
          <p:cNvSpPr/>
          <p:nvPr/>
        </p:nvSpPr>
        <p:spPr>
          <a:xfrm>
            <a:off x="3357720" y="1071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два јона супротног наелектрис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у вакуу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428760" y="371484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Енергија интеракције два јона супротног наелектрисањ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ће бити производ силе и растојањ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357120" y="1285920"/>
            <a:ext cx="274680" cy="274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2643120" y="1285920"/>
            <a:ext cx="274680" cy="274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21"/>
          <p:cNvCxnSpPr/>
          <p:nvPr/>
        </p:nvCxnSpPr>
        <p:spPr>
          <a:xfrm>
            <a:off x="642960" y="1643040"/>
            <a:ext cx="2000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3" name="Rectangle 22"/>
          <p:cNvSpPr/>
          <p:nvPr/>
        </p:nvSpPr>
        <p:spPr>
          <a:xfrm>
            <a:off x="2441520" y="714240"/>
            <a:ext cx="55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sr-C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224280" y="714240"/>
            <a:ext cx="55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1428840" y="714240"/>
            <a:ext cx="869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i="1" lang="sr-R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25"/>
          <p:cNvCxnSpPr>
            <a:stCxn id="230" idx="6"/>
          </p:cNvCxnSpPr>
          <p:nvPr/>
        </p:nvCxnSpPr>
        <p:spPr>
          <a:xfrm>
            <a:off x="631800" y="1422360"/>
            <a:ext cx="583200" cy="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7" name="Straight Arrow Connector 26"/>
          <p:cNvCxnSpPr>
            <a:stCxn id="231" idx="2"/>
          </p:cNvCxnSpPr>
          <p:nvPr/>
        </p:nvCxnSpPr>
        <p:spPr>
          <a:xfrm flipH="1">
            <a:off x="2000160" y="1422360"/>
            <a:ext cx="643320" cy="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38" name="Rectangle 27"/>
          <p:cNvSpPr/>
          <p:nvPr/>
        </p:nvSpPr>
        <p:spPr>
          <a:xfrm>
            <a:off x="653400" y="928800"/>
            <a:ext cx="63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-F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8"/>
          <p:cNvSpPr/>
          <p:nvPr/>
        </p:nvSpPr>
        <p:spPr>
          <a:xfrm>
            <a:off x="2080800" y="857160"/>
            <a:ext cx="52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2643120" y="1214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2"/>
          <p:cNvSpPr/>
          <p:nvPr/>
        </p:nvSpPr>
        <p:spPr>
          <a:xfrm>
            <a:off x="359640" y="121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статичко привлачење јона натријума и јона хлор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12400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ionicblue"/>
          <p:cNvPicPr/>
          <p:nvPr/>
        </p:nvPicPr>
        <p:blipFill>
          <a:blip r:embed="rId1"/>
          <a:stretch/>
        </p:blipFill>
        <p:spPr>
          <a:xfrm>
            <a:off x="2643120" y="928800"/>
            <a:ext cx="4103640" cy="27986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0"/>
          <p:cNvSpPr/>
          <p:nvPr/>
        </p:nvSpPr>
        <p:spPr>
          <a:xfrm>
            <a:off x="0" y="3786120"/>
            <a:ext cx="964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тенцијална енергија интеракције две наелектрисане честице се често означава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 и назива се потенцијал интеракције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"/>
              <p:cNvSpPr txBox="1"/>
              <p:nvPr/>
            </p:nvSpPr>
            <p:spPr>
              <a:xfrm>
                <a:off x="357120" y="5000760"/>
                <a:ext cx="397512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4786200" y="4929120"/>
                <a:ext cx="3789360" cy="16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TextBox 3"/>
          <p:cNvGrpSpPr/>
          <p:nvPr/>
        </p:nvGrpSpPr>
        <p:grpSpPr>
          <a:xfrm>
            <a:off x="55440" y="-231840"/>
            <a:ext cx="9320400" cy="4005360"/>
            <a:chOff x="55440" y="-231840"/>
            <a:chExt cx="9320400" cy="4005360"/>
          </a:xfrm>
        </p:grpSpPr>
        <p:pic>
          <p:nvPicPr>
            <p:cNvPr id="249" name="TextBox 3" descr=""/>
            <p:cNvPicPr/>
            <p:nvPr/>
          </p:nvPicPr>
          <p:blipFill>
            <a:blip r:embed="rId1"/>
            <a:stretch/>
          </p:blipFill>
          <p:spPr>
            <a:xfrm>
              <a:off x="55440" y="-231840"/>
              <a:ext cx="9320400" cy="40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85840" y="0"/>
              <a:ext cx="885816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0000"/>
                  </a:solidFill>
                  <a:latin typeface="Calibri"/>
                </a:rPr>
                <a:t>Електрично пољ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Електрично или електростатичко поље је простор око наелектрисаног тела у коме се манифестује дејство електростатичке силе на друга тела која се налазе у том пољу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Количник вектора Кулонове силе и налектрисања на које та сила делује одређује јачину електричног поља у тачки у којој се налази посматрано наелектрисање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3801960" y="5357880"/>
                <a:ext cx="53420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Oval 17"/>
          <p:cNvGrpSpPr/>
          <p:nvPr/>
        </p:nvGrpSpPr>
        <p:grpSpPr>
          <a:xfrm>
            <a:off x="-12600" y="3200400"/>
            <a:ext cx="3627360" cy="3670200"/>
            <a:chOff x="-12600" y="3200400"/>
            <a:chExt cx="3627360" cy="3670200"/>
          </a:xfrm>
        </p:grpSpPr>
        <p:pic>
          <p:nvPicPr>
            <p:cNvPr id="253" name="Oval 17" descr=""/>
            <p:cNvPicPr/>
            <p:nvPr/>
          </p:nvPicPr>
          <p:blipFill>
            <a:blip r:embed="rId2"/>
            <a:stretch/>
          </p:blipFill>
          <p:spPr>
            <a:xfrm>
              <a:off x="-12600" y="3200400"/>
              <a:ext cx="362736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27040" y="3747960"/>
              <a:ext cx="25462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"/>
          <p:cNvGrpSpPr/>
          <p:nvPr/>
        </p:nvGrpSpPr>
        <p:grpSpPr>
          <a:xfrm>
            <a:off x="1438920" y="4357800"/>
            <a:ext cx="2484000" cy="2146680"/>
            <a:chOff x="1438920" y="4357800"/>
            <a:chExt cx="2484000" cy="2146680"/>
          </a:xfrm>
        </p:grpSpPr>
        <p:sp>
          <p:nvSpPr>
            <p:cNvPr id="256" name="Oval 6"/>
            <p:cNvSpPr/>
            <p:nvPr/>
          </p:nvSpPr>
          <p:spPr>
            <a:xfrm>
              <a:off x="3572280" y="4929120"/>
              <a:ext cx="274320" cy="2743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Straight Arrow Connector 7"/>
            <p:cNvCxnSpPr/>
            <p:nvPr/>
          </p:nvCxnSpPr>
          <p:spPr>
            <a:xfrm>
              <a:off x="1642680" y="5429160"/>
              <a:ext cx="200124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8" name="Rectangle 8"/>
            <p:cNvSpPr/>
            <p:nvPr/>
          </p:nvSpPr>
          <p:spPr>
            <a:xfrm>
              <a:off x="3370320" y="435780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C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1"/>
            <p:cNvSpPr/>
            <p:nvPr/>
          </p:nvSpPr>
          <p:spPr>
            <a:xfrm>
              <a:off x="2357640" y="5071680"/>
              <a:ext cx="95724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r>
                <a:rPr b="0" i="1" lang="sr-Latn-C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r>
                <a:rPr b="0" i="1" lang="sr-R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,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Straight Arrow Connector 12"/>
            <p:cNvCxnSpPr>
              <a:stCxn id="256" idx="2"/>
            </p:cNvCxnSpPr>
            <p:nvPr/>
          </p:nvCxnSpPr>
          <p:spPr>
            <a:xfrm flipH="1">
              <a:off x="2928960" y="5064480"/>
              <a:ext cx="6433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61" name="Rectangle 14"/>
            <p:cNvSpPr/>
            <p:nvPr/>
          </p:nvSpPr>
          <p:spPr>
            <a:xfrm>
              <a:off x="3009600" y="4500360"/>
              <a:ext cx="524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5"/>
            <p:cNvSpPr/>
            <p:nvPr/>
          </p:nvSpPr>
          <p:spPr>
            <a:xfrm>
              <a:off x="3572280" y="48574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8"/>
            <p:cNvSpPr/>
            <p:nvPr/>
          </p:nvSpPr>
          <p:spPr>
            <a:xfrm>
              <a:off x="1571400" y="4929120"/>
              <a:ext cx="274320" cy="2743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9"/>
            <p:cNvSpPr/>
            <p:nvPr/>
          </p:nvSpPr>
          <p:spPr>
            <a:xfrm>
              <a:off x="1438920" y="435780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Straight Arrow Connector 20"/>
            <p:cNvCxnSpPr>
              <a:stCxn id="263" idx="6"/>
            </p:cNvCxnSpPr>
            <p:nvPr/>
          </p:nvCxnSpPr>
          <p:spPr>
            <a:xfrm>
              <a:off x="1846080" y="5065200"/>
              <a:ext cx="58320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66" name="Rectangle 21"/>
            <p:cNvSpPr/>
            <p:nvPr/>
          </p:nvSpPr>
          <p:spPr>
            <a:xfrm>
              <a:off x="1867680" y="4572000"/>
              <a:ext cx="633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-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22"/>
            <p:cNvSpPr/>
            <p:nvPr/>
          </p:nvSpPr>
          <p:spPr>
            <a:xfrm>
              <a:off x="1573560" y="4857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E:\FARMACIJA 2012 oktobar\farmacija za saj 2012\index.jpg"/>
          <p:cNvPicPr/>
          <p:nvPr/>
        </p:nvPicPr>
        <p:blipFill>
          <a:blip r:embed="rId1"/>
          <a:stretch/>
        </p:blipFill>
        <p:spPr>
          <a:xfrm>
            <a:off x="117360" y="493560"/>
            <a:ext cx="6072480" cy="48387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455040" y="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није сила електричног пољ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4286160" y="542916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ff0000"/>
                </a:solidFill>
                <a:latin typeface="Arial"/>
                <a:ea typeface="Arial"/>
              </a:rPr>
              <a:t>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ачина електричног поља опада са квадратом растојања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(интензит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0" y="5300640"/>
                <a:ext cx="42148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TextBox 1"/>
          <p:cNvSpPr/>
          <p:nvPr/>
        </p:nvSpPr>
        <p:spPr>
          <a:xfrm>
            <a:off x="6051600" y="836640"/>
            <a:ext cx="305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ац-правац деловања си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Смер-од тела ако је тело + наелектрисано, према телу ако је тело - наелектрис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79280" y="1519200"/>
            <a:ext cx="6072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иц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материје је електричне природе. Сваки атом се састоји од позитивно наелектрисаног језгра и негативно наелектрисаног омотача. У састав сваког атома улази једнак број позитивно наелектрисаних протона и негативно наелектрисаних електрона, па је атом самим тим електрично неутрал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743200" cy="33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00840" y="450072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Наелектрисање електрона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−1</a:t>
            </a:r>
            <a:r>
              <a:rPr b="1" i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056280" y="53751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Наелектрисање протона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+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1" i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50920" y="1332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ицитет и магнетизам представљају облике кретања матер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620120" cy="4371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714240"/>
            <a:ext cx="880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лектронегативност је способност атома у молекулу да привлачи електр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"/>
          <p:cNvGrpSpPr/>
          <p:nvPr/>
        </p:nvGrpSpPr>
        <p:grpSpPr>
          <a:xfrm>
            <a:off x="2438280" y="357120"/>
            <a:ext cx="6705360" cy="6500520"/>
            <a:chOff x="2438280" y="357120"/>
            <a:chExt cx="6705360" cy="6500520"/>
          </a:xfrm>
        </p:grpSpPr>
        <p:pic>
          <p:nvPicPr>
            <p:cNvPr id="277" name="Picture 5" descr=""/>
            <p:cNvPicPr/>
            <p:nvPr/>
          </p:nvPicPr>
          <p:blipFill>
            <a:blip r:embed="rId1"/>
            <a:stretch/>
          </p:blipFill>
          <p:spPr>
            <a:xfrm>
              <a:off x="2444400" y="357120"/>
              <a:ext cx="6699240" cy="650052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78" name="Rectangle 6"/>
            <p:cNvSpPr/>
            <p:nvPr/>
          </p:nvSpPr>
          <p:spPr>
            <a:xfrm>
              <a:off x="2438280" y="359640"/>
              <a:ext cx="6608880" cy="636984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485820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66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5357880" y="1571760"/>
            <a:ext cx="2971800" cy="190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34920" y="4716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ипов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валент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2317680" y="-5400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13-11"/>
          <p:cNvPicPr/>
          <p:nvPr/>
        </p:nvPicPr>
        <p:blipFill>
          <a:blip r:embed="rId1"/>
          <a:stretch/>
        </p:blipFill>
        <p:spPr>
          <a:xfrm>
            <a:off x="0" y="0"/>
            <a:ext cx="2962440" cy="51436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0"/>
          <p:cNvSpPr/>
          <p:nvPr/>
        </p:nvSpPr>
        <p:spPr>
          <a:xfrm>
            <a:off x="0" y="507204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асте јонски кара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6"/>
          <p:cNvCxnSpPr/>
          <p:nvPr/>
        </p:nvCxnSpPr>
        <p:spPr>
          <a:xfrm flipV="1">
            <a:off x="1643040" y="-720"/>
            <a:ext cx="2160" cy="528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6" name="Text Box 11"/>
          <p:cNvSpPr/>
          <p:nvPr/>
        </p:nvSpPr>
        <p:spPr>
          <a:xfrm>
            <a:off x="3048120" y="0"/>
            <a:ext cx="6095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Јонска веза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Између атома чије се електронегативности разликују за више од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2.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због чега долази до преноса 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  <a:ea typeface="Arial"/>
              </a:rPr>
              <a:t>КОВАЛЕНТНА 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Неполарна ковалентна веза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 атома чија се електронегативност разликује за мање о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  <a:ea typeface="Arial"/>
              </a:rPr>
              <a:t> 0.5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Поларна ковалентна веза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 атома чије се електронегативности разликују измеђ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Arial"/>
                <a:ea typeface="Arial"/>
              </a:rPr>
              <a:t>0.5 </a:t>
            </a:r>
            <a:r>
              <a:rPr b="1" lang="sr-Latn-CS" sz="2400" spc="-1" strike="noStrike">
                <a:solidFill>
                  <a:srgbClr val="cc0066"/>
                </a:solidFill>
                <a:latin typeface="Arial"/>
                <a:ea typeface="Arial"/>
              </a:rPr>
              <a:t>i</a:t>
            </a:r>
            <a:r>
              <a:rPr b="1" lang="en-GB" sz="2400" spc="-1" strike="noStrike">
                <a:solidFill>
                  <a:srgbClr val="cc0066"/>
                </a:solidFill>
                <a:latin typeface="Arial"/>
                <a:ea typeface="Arial"/>
              </a:rPr>
              <a:t> 2.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962000" y="5657760"/>
            <a:ext cx="7154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-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2.5 – 2.5 = 0) неполарна ковалент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-F (4.0 – 2.1 = 1.9) поларна ковалент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F (4.0 – 1.0 = 3.0) јонска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4"/>
          <p:cNvSpPr/>
          <p:nvPr/>
        </p:nvSpPr>
        <p:spPr>
          <a:xfrm>
            <a:off x="27360" y="-52560"/>
            <a:ext cx="87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3300"/>
                </a:solidFill>
                <a:latin typeface="Arial"/>
                <a:ea typeface="Arial"/>
              </a:rPr>
              <a:t>Е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лектронегативност и поларност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хемијске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вез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33200" y="685800"/>
            <a:ext cx="943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2.1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нос електрон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0.9  3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= </a:t>
            </a:r>
            <a:r>
              <a:rPr b="0" lang="sr-Latn-CS" sz="2800" spc="-1" strike="noStrike">
                <a:solidFill>
                  <a:srgbClr val="0000ff"/>
                </a:solidFill>
                <a:latin typeface="Arial"/>
                <a:ea typeface="Arial"/>
              </a:rPr>
              <a:t>j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нска в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—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"/>
              <a:tabLst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2.1  2.1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дједнако привлаче пар е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"/>
              <a:tabLst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l—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неполарна ковалентна в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 3.0 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—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.9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једнако привлаче па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2.1   3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поларна ковалентна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2000160" y="2286000"/>
            <a:ext cx="152640" cy="121932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72960" y="49291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  <a:ea typeface="Arial"/>
              </a:rPr>
              <a:t>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мен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о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12400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ionic_bond_formation"/>
          <p:cNvPicPr/>
          <p:nvPr/>
        </p:nvPicPr>
        <p:blipFill>
          <a:blip r:embed="rId1"/>
          <a:stretch/>
        </p:blipFill>
        <p:spPr>
          <a:xfrm>
            <a:off x="4738680" y="1066680"/>
            <a:ext cx="4405320" cy="5791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onicblue"/>
          <p:cNvPicPr/>
          <p:nvPr/>
        </p:nvPicPr>
        <p:blipFill>
          <a:blip r:embed="rId2"/>
          <a:stretch/>
        </p:blipFill>
        <p:spPr>
          <a:xfrm>
            <a:off x="357120" y="1714680"/>
            <a:ext cx="4103640" cy="27986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6"/>
          <p:cNvSpPr/>
          <p:nvPr/>
        </p:nvSpPr>
        <p:spPr>
          <a:xfrm>
            <a:off x="4876920" y="838080"/>
            <a:ext cx="2895480" cy="914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онс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е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 - 4000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594360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нос електрона са елемента који има малу електронегативност на елемент који има велику електр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ос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0" y="357120"/>
            <a:ext cx="4572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а једињења садрже супротно наелектрисане јоне који имају међусобно веома јаку електростат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чку интеракц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ротно наелектрисани јони интерагују међусобно много јачом силом него два атома између којих је успостављена ковалентна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0"/>
            <a:ext cx="2944800" cy="3657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rcRect l="0" t="17715" r="87482" b="0"/>
          <a:stretch/>
        </p:blipFill>
        <p:spPr>
          <a:xfrm>
            <a:off x="4572000" y="3551400"/>
            <a:ext cx="1101600" cy="3306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rcRect l="93453" t="17485" r="0" b="0"/>
          <a:stretch/>
        </p:blipFill>
        <p:spPr>
          <a:xfrm>
            <a:off x="8429760" y="3786120"/>
            <a:ext cx="714240" cy="30718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5715000" y="39290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Јонска једиње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де елементи који имају велику разлику у електронега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5" descr="NaCl_structure_large"/>
          <p:cNvPicPr/>
          <p:nvPr/>
        </p:nvPicPr>
        <p:blipFill>
          <a:blip r:embed="rId1"/>
          <a:stretch/>
        </p:blipFill>
        <p:spPr>
          <a:xfrm>
            <a:off x="0" y="0"/>
            <a:ext cx="7924680" cy="3741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6"/>
          <p:cNvSpPr/>
          <p:nvPr/>
        </p:nvSpPr>
        <p:spPr>
          <a:xfrm>
            <a:off x="228600" y="228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sCl_structure"/>
          <p:cNvPicPr/>
          <p:nvPr/>
        </p:nvPicPr>
        <p:blipFill>
          <a:blip r:embed="rId2"/>
          <a:srcRect l="0" t="0" r="-3400" b="48092"/>
          <a:stretch/>
        </p:blipFill>
        <p:spPr>
          <a:xfrm>
            <a:off x="4419720" y="4011480"/>
            <a:ext cx="4495680" cy="28465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4344480" y="373392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  <a:ea typeface="Arial"/>
              </a:rPr>
              <a:t>Cs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0" y="3733920"/>
            <a:ext cx="4419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њењ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сто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шетк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зитив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ачи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304920" y="60199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400 - 400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642960" y="19288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онска једиње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БРОЈТЕ БАР ПЕТ ЈОНСКИХ ЈЕДИЊЕЊА КОЈЕ ПОЗНАЈ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ПИШИТЕ ЈЕДНАЧИНУ НАСТАЈАЊА Ј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123_0406.jpg                                                   00030FE6Macintosh HD                   ABA78158:"/>
          <p:cNvPicPr/>
          <p:nvPr/>
        </p:nvPicPr>
        <p:blipFill>
          <a:blip r:embed="rId1"/>
          <a:stretch/>
        </p:blipFill>
        <p:spPr>
          <a:xfrm>
            <a:off x="152280" y="0"/>
            <a:ext cx="7905960" cy="56466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1784520" y="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ОВАЛЕНТ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Polar Covalent HCl"/>
          <p:cNvPicPr/>
          <p:nvPr/>
        </p:nvPicPr>
        <p:blipFill>
          <a:blip r:embed="rId2"/>
          <a:srcRect l="70655" t="-2563" r="1086" b="25700"/>
          <a:stretch/>
        </p:blipFill>
        <p:spPr>
          <a:xfrm>
            <a:off x="5357880" y="5691240"/>
            <a:ext cx="1284120" cy="1166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non-polar covalent Cl2"/>
          <p:cNvPicPr/>
          <p:nvPr/>
        </p:nvPicPr>
        <p:blipFill>
          <a:blip r:embed="rId3"/>
          <a:srcRect l="62723" t="0" r="0" b="0"/>
          <a:stretch/>
        </p:blipFill>
        <p:spPr>
          <a:xfrm>
            <a:off x="1295280" y="5969160"/>
            <a:ext cx="1295640" cy="8888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7200" y="36576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  <a:ea typeface="Arial"/>
              </a:rPr>
              <a:t>непола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3738240" y="373392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  <a:ea typeface="Arial"/>
              </a:rPr>
              <a:t>пола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0" y="4724280"/>
            <a:ext cx="3809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том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лиск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дентич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ч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3809880" y="4857840"/>
            <a:ext cx="533412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том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зличит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ктронегативнос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дел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дентича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63"/>
          <p:cNvGrpSpPr/>
          <p:nvPr/>
        </p:nvGrpSpPr>
        <p:grpSpPr>
          <a:xfrm>
            <a:off x="7000920" y="3929040"/>
            <a:ext cx="1476360" cy="915480"/>
            <a:chOff x="7000920" y="3929040"/>
            <a:chExt cx="1476360" cy="915480"/>
          </a:xfrm>
        </p:grpSpPr>
        <p:grpSp>
          <p:nvGrpSpPr>
            <p:cNvPr id="319" name="Flowchart: Connector 10"/>
            <p:cNvGrpSpPr/>
            <p:nvPr/>
          </p:nvGrpSpPr>
          <p:grpSpPr>
            <a:xfrm>
              <a:off x="7000920" y="4008960"/>
              <a:ext cx="1476360" cy="772560"/>
              <a:chOff x="7000920" y="4008960"/>
              <a:chExt cx="1476360" cy="772560"/>
            </a:xfrm>
          </p:grpSpPr>
          <p:pic>
            <p:nvPicPr>
              <p:cNvPr id="320" name="Flowchart: Connector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7000920" y="4008960"/>
                <a:ext cx="1476360" cy="77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7205040" y="4106520"/>
                <a:ext cx="81576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Rectangle 9"/>
            <p:cNvSpPr/>
            <p:nvPr/>
          </p:nvSpPr>
          <p:spPr>
            <a:xfrm>
              <a:off x="7659720" y="3984840"/>
              <a:ext cx="354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014240" y="3929040"/>
              <a:ext cx="585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0" y="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f497d"/>
                </a:solidFill>
                <a:latin typeface="Arial"/>
                <a:ea typeface="Arial"/>
              </a:rPr>
              <a:t>Поларна</a:t>
            </a:r>
            <a:r>
              <a:rPr b="1" lang="sr-Latn-CS" sz="36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Arial"/>
                <a:ea typeface="Arial"/>
              </a:rPr>
              <a:t>ковалентна</a:t>
            </a:r>
            <a:r>
              <a:rPr b="1" lang="sr-Latn-CS" sz="36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Arial"/>
                <a:ea typeface="Arial"/>
              </a:rPr>
              <a:t>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16002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571680"/>
          <a:ext cx="6572160" cy="3060360"/>
        </p:xfrm>
        <a:graphic>
          <a:graphicData uri="http://schemas.openxmlformats.org/drawingml/2006/table">
            <a:tbl>
              <a:tblPr/>
              <a:tblGrid>
                <a:gridCol w="2000160"/>
                <a:gridCol w="1392480"/>
                <a:gridCol w="1679400"/>
                <a:gridCol w="150012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једиње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ужина везе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Å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лика у електронега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иполни моменат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7" name="Text Box 38"/>
          <p:cNvSpPr/>
          <p:nvPr/>
        </p:nvSpPr>
        <p:spPr>
          <a:xfrm>
            <a:off x="357120" y="590400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Поларни</a:t>
            </a:r>
            <a:r>
              <a:rPr b="1" lang="en-GB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молекули</a:t>
            </a:r>
            <a:r>
              <a:rPr b="1" lang="en-GB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sr-Latn-CS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с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ме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1" descr=""/>
          <p:cNvPicPr/>
          <p:nvPr/>
        </p:nvPicPr>
        <p:blipFill>
          <a:blip r:embed="rId1"/>
          <a:srcRect l="0" t="0" r="92550" b="80522"/>
          <a:stretch/>
        </p:blipFill>
        <p:spPr>
          <a:xfrm>
            <a:off x="6858000" y="285840"/>
            <a:ext cx="755640" cy="1133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2" descr=""/>
          <p:cNvPicPr/>
          <p:nvPr/>
        </p:nvPicPr>
        <p:blipFill>
          <a:blip r:embed="rId2"/>
          <a:srcRect l="81993" t="9727" r="-576" b="12346"/>
          <a:stretch/>
        </p:blipFill>
        <p:spPr>
          <a:xfrm>
            <a:off x="7716960" y="285840"/>
            <a:ext cx="1427040" cy="34290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6"/>
          <p:cNvSpPr/>
          <p:nvPr/>
        </p:nvSpPr>
        <p:spPr>
          <a:xfrm>
            <a:off x="0" y="3857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Ова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једињења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имај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једн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поларн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ковалентн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вез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и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зато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су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поларни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молекули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7"/>
          <p:cNvSpPr/>
          <p:nvPr/>
        </p:nvSpPr>
        <p:spPr>
          <a:xfrm>
            <a:off x="0" y="472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валент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том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Up Arrow 9"/>
          <p:cNvSpPr/>
          <p:nvPr/>
        </p:nvSpPr>
        <p:spPr>
          <a:xfrm>
            <a:off x="642960" y="350028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63"/>
          <p:cNvGrpSpPr/>
          <p:nvPr/>
        </p:nvGrpSpPr>
        <p:grpSpPr>
          <a:xfrm>
            <a:off x="0" y="857160"/>
            <a:ext cx="1476360" cy="915480"/>
            <a:chOff x="0" y="857160"/>
            <a:chExt cx="1476360" cy="915480"/>
          </a:xfrm>
        </p:grpSpPr>
        <p:grpSp>
          <p:nvGrpSpPr>
            <p:cNvPr id="334" name="Flowchart: Connector 11"/>
            <p:cNvGrpSpPr/>
            <p:nvPr/>
          </p:nvGrpSpPr>
          <p:grpSpPr>
            <a:xfrm>
              <a:off x="0" y="936720"/>
              <a:ext cx="1476360" cy="772920"/>
              <a:chOff x="0" y="936720"/>
              <a:chExt cx="1476360" cy="772920"/>
            </a:xfrm>
          </p:grpSpPr>
          <p:pic>
            <p:nvPicPr>
              <p:cNvPr id="335" name="Flowchart: Connecto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936720"/>
                <a:ext cx="147636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202680" y="1035000"/>
                <a:ext cx="81828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Rectangle 9"/>
            <p:cNvSpPr/>
            <p:nvPr/>
          </p:nvSpPr>
          <p:spPr>
            <a:xfrm>
              <a:off x="659160" y="912960"/>
              <a:ext cx="354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>
              <a:off x="12240" y="857160"/>
              <a:ext cx="585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357120" y="357120"/>
            <a:ext cx="878688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осилац најмање количине негативног наелектрисања је електрон, а позитивног прото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Њихове количине наелектрисања су исте, али су супротног знака и износ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1е= 1,602 10</a:t>
            </a:r>
            <a:r>
              <a:rPr b="1" lang="sr-CS" sz="3600" spc="-1" strike="noStrike" baseline="30000">
                <a:solidFill>
                  <a:srgbClr val="ff0000"/>
                </a:solidFill>
                <a:latin typeface="Arial"/>
              </a:rPr>
              <a:t>-19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C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диница за наелектрисање је Кулон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аса протона је скоро две хиљаде пута већа од масе електрон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= 1836,5 m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оларни молекули и поларне ве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642960" y="492912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Дипол  се састоји од два парцијална наелектрисања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која се налазе на растојању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214200" y="857160"/>
          <a:ext cx="2016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857160"/>
                    <a:ext cx="201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6"/>
          <p:cNvSpPr/>
          <p:nvPr/>
        </p:nvSpPr>
        <p:spPr>
          <a:xfrm>
            <a:off x="324720" y="609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IE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881360" y="61452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IE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539600" y="542916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0" y="171468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арцијално наелектрисање </a:t>
            </a: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IE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3571920" y="1285920"/>
                <a:ext cx="21319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Rectangle 9"/>
          <p:cNvSpPr/>
          <p:nvPr/>
        </p:nvSpPr>
        <p:spPr>
          <a:xfrm>
            <a:off x="1073520" y="14288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5643720" y="114300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ични диполни моме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5"/>
              <p:cNvSpPr txBox="1"/>
              <p:nvPr/>
            </p:nvSpPr>
            <p:spPr>
              <a:xfrm>
                <a:off x="2571840" y="3214800"/>
                <a:ext cx="20444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6"/>
          <p:cNvSpPr/>
          <p:nvPr/>
        </p:nvSpPr>
        <p:spPr>
          <a:xfrm>
            <a:off x="4786200" y="2428920"/>
            <a:ext cx="43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личина наелектрисања је производ наелектрисања електрона и парцијалног наелектрисања ат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63"/>
          <p:cNvGrpSpPr/>
          <p:nvPr/>
        </p:nvGrpSpPr>
        <p:grpSpPr>
          <a:xfrm>
            <a:off x="428760" y="3500280"/>
            <a:ext cx="1904760" cy="924120"/>
            <a:chOff x="428760" y="3500280"/>
            <a:chExt cx="1904760" cy="924120"/>
          </a:xfrm>
        </p:grpSpPr>
        <p:grpSp>
          <p:nvGrpSpPr>
            <p:cNvPr id="353" name="Flowchart: Connector 15"/>
            <p:cNvGrpSpPr/>
            <p:nvPr/>
          </p:nvGrpSpPr>
          <p:grpSpPr>
            <a:xfrm>
              <a:off x="428760" y="3589200"/>
              <a:ext cx="1904760" cy="835200"/>
              <a:chOff x="428760" y="3589200"/>
              <a:chExt cx="1904760" cy="835200"/>
            </a:xfrm>
          </p:grpSpPr>
          <p:pic>
            <p:nvPicPr>
              <p:cNvPr id="354" name="Flowchart: Connector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760" y="3589200"/>
                <a:ext cx="190476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694800" y="3698640"/>
                <a:ext cx="110772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Rectangle 9"/>
            <p:cNvSpPr/>
            <p:nvPr/>
          </p:nvSpPr>
          <p:spPr>
            <a:xfrm>
              <a:off x="1375200" y="3562560"/>
              <a:ext cx="354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540000" y="3500280"/>
              <a:ext cx="585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"/>
          <p:cNvSpPr/>
          <p:nvPr/>
        </p:nvSpPr>
        <p:spPr>
          <a:xfrm>
            <a:off x="0" y="115920"/>
            <a:ext cx="8572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извод  из наелектрисања и дужине везе 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 назива електрични диполни моменат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IE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C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полни момент се презентује стрелицом чија дужина је пропорционална диполном моменту а оријентисана је од позитивн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 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гативн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делу молеку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дући да је производ између наелектрисања и дужине јединица је </a:t>
            </a:r>
            <a:r>
              <a:rPr b="1" lang="en-IE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Cm). Јединца за диполни момент је ДЕБАЈ и једнака 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2500200" y="6000840"/>
                <a:ext cx="5477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"/>
              <p:cNvSpPr txBox="1"/>
              <p:nvPr/>
            </p:nvSpPr>
            <p:spPr>
              <a:xfrm>
                <a:off x="2916360" y="1197000"/>
                <a:ext cx="21319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228600" y="714240"/>
            <a:ext cx="891540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ови који постоје као двоатомски молекули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и двоатомски  молекул који се састоји од дв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а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атом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ће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ти диполни моменат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р између њих нема разлике у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електронегативност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642960" y="42861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и двоатомски  молекул који се састоји од два различита атома ће имати диполни моменат због разлике у електронегативности а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G:\FARMACIJA KG\slike 2015 za knjigu i neki tekstovi\564bc010bc72eacccc974f9573b7cbf0.jpg"/>
          <p:cNvPicPr/>
          <p:nvPr/>
        </p:nvPicPr>
        <p:blipFill>
          <a:blip r:embed="rId1"/>
          <a:stretch/>
        </p:blipFill>
        <p:spPr>
          <a:xfrm>
            <a:off x="4572000" y="876240"/>
            <a:ext cx="4354560" cy="4753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G:\FARMACIJA KG\slike 2015 za knjigu i neki tekstovi\5896cb0d9da2289d15fa51699cacf013.jpg"/>
          <p:cNvPicPr/>
          <p:nvPr/>
        </p:nvPicPr>
        <p:blipFill>
          <a:blip r:embed="rId2"/>
          <a:stretch/>
        </p:blipFill>
        <p:spPr>
          <a:xfrm>
            <a:off x="39600" y="912960"/>
            <a:ext cx="3878280" cy="4679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2071800" y="2857680"/>
            <a:ext cx="21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е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0" y="2786040"/>
            <a:ext cx="21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е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6000840" y="5126040"/>
            <a:ext cx="21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е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1857240" y="5143680"/>
            <a:ext cx="214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одбиј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0" y="5214960"/>
            <a:ext cx="21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биј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0" y="75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ДИПОЛ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–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ДИПОЛ ИНТЕРА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п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пол интеракција је 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молекулска интеракција поларних молекул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ла узајамног дејства два дипола зависи од њихових диполних момената и њиховог међусобног растојања на четврти степе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4143240" y="3857760"/>
                <a:ext cx="36673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Rectangle 6"/>
          <p:cNvSpPr/>
          <p:nvPr/>
        </p:nvSpPr>
        <p:spPr>
          <a:xfrm>
            <a:off x="0" y="5000760"/>
            <a:ext cx="89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негија интеракције између два поларна молекул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"/>
              <p:cNvSpPr txBox="1"/>
              <p:nvPr/>
            </p:nvSpPr>
            <p:spPr>
              <a:xfrm>
                <a:off x="428760" y="3786120"/>
                <a:ext cx="2079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Rectangle 2"/>
          <p:cNvSpPr/>
          <p:nvPr/>
        </p:nvSpPr>
        <p:spPr>
          <a:xfrm>
            <a:off x="19080" y="3360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Calibri"/>
              </a:rPr>
              <a:t>Сила 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Calibri"/>
              </a:rPr>
              <a:t>ип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Calibri"/>
              </a:rPr>
              <a:t>дипол интерак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928800" y="5570640"/>
                <a:ext cx="23349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956120" y="5634000"/>
                <a:ext cx="4187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7" name="Group 1"/>
          <p:cNvGrpSpPr/>
          <p:nvPr/>
        </p:nvGrpSpPr>
        <p:grpSpPr>
          <a:xfrm>
            <a:off x="285840" y="1498680"/>
            <a:ext cx="8150040" cy="2028240"/>
            <a:chOff x="285840" y="1498680"/>
            <a:chExt cx="8150040" cy="2028240"/>
          </a:xfrm>
        </p:grpSpPr>
        <p:pic>
          <p:nvPicPr>
            <p:cNvPr id="378" name="Object 9" descr=""/>
            <p:cNvPicPr/>
            <p:nvPr/>
          </p:nvPicPr>
          <p:blipFill>
            <a:blip r:embed="rId1"/>
            <a:srcRect l="-1461" t="-5624" r="0" b="-682"/>
            <a:stretch/>
          </p:blipFill>
          <p:spPr>
            <a:xfrm>
              <a:off x="285840" y="1928880"/>
              <a:ext cx="45734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Oval 2"/>
            <p:cNvSpPr/>
            <p:nvPr/>
          </p:nvSpPr>
          <p:spPr>
            <a:xfrm>
              <a:off x="5394240" y="29401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>
              <a:off x="6114960" y="2940120"/>
              <a:ext cx="287280" cy="287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H="1">
              <a:off x="5681520" y="308304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 flipV="1">
              <a:off x="5538960" y="2506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7"/>
            <p:cNvSpPr/>
            <p:nvPr/>
          </p:nvSpPr>
          <p:spPr>
            <a:xfrm flipV="1">
              <a:off x="6257880" y="2506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8"/>
            <p:cNvSpPr/>
            <p:nvPr/>
          </p:nvSpPr>
          <p:spPr>
            <a:xfrm>
              <a:off x="5538960" y="2724120"/>
              <a:ext cx="71892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9"/>
            <p:cNvSpPr/>
            <p:nvPr/>
          </p:nvSpPr>
          <p:spPr>
            <a:xfrm>
              <a:off x="6701040" y="1974960"/>
              <a:ext cx="37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q</a:t>
              </a:r>
              <a:r>
                <a:rPr b="0" lang="en-IE" sz="16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0"/>
            <p:cNvSpPr/>
            <p:nvPr/>
          </p:nvSpPr>
          <p:spPr>
            <a:xfrm>
              <a:off x="6021360" y="3152880"/>
              <a:ext cx="438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-q</a:t>
              </a:r>
              <a:r>
                <a:rPr b="0" lang="en-IE" sz="16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5369040" y="3156120"/>
              <a:ext cx="37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q</a:t>
              </a:r>
              <a:r>
                <a:rPr b="0" lang="en-IE" sz="16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2"/>
            <p:cNvSpPr/>
            <p:nvPr/>
          </p:nvSpPr>
          <p:spPr>
            <a:xfrm>
              <a:off x="6626880" y="2363760"/>
              <a:ext cx="26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1f497d"/>
                  </a:solidFill>
                  <a:latin typeface="Comic Sans MS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3"/>
            <p:cNvSpPr/>
            <p:nvPr/>
          </p:nvSpPr>
          <p:spPr>
            <a:xfrm>
              <a:off x="5781960" y="2362320"/>
              <a:ext cx="29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1f497d"/>
                  </a:solidFill>
                  <a:latin typeface="Comic Sans MS"/>
                  <a:ea typeface="Arial"/>
                </a:rPr>
                <a:t>l</a:t>
              </a:r>
              <a:r>
                <a:rPr b="0" lang="en-IE" sz="1600" spc="-1" strike="noStrike" baseline="-25000">
                  <a:solidFill>
                    <a:srgbClr val="1f497d"/>
                  </a:solidFill>
                  <a:latin typeface="Comic Sans MS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 flipV="1">
              <a:off x="5838840" y="2219040"/>
              <a:ext cx="1657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5"/>
            <p:cNvSpPr/>
            <p:nvPr/>
          </p:nvSpPr>
          <p:spPr>
            <a:xfrm>
              <a:off x="6402600" y="3083040"/>
              <a:ext cx="1439640" cy="0"/>
            </a:xfrm>
            <a:prstGeom prst="line">
              <a:avLst/>
            </a:prstGeom>
            <a:ln w="144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rc 16"/>
            <p:cNvSpPr/>
            <p:nvPr/>
          </p:nvSpPr>
          <p:spPr>
            <a:xfrm>
              <a:off x="6546960" y="2722680"/>
              <a:ext cx="215640" cy="3603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6691680" y="2651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1f497d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7016760" y="20653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7737480" y="2065320"/>
              <a:ext cx="287280" cy="287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 flipH="1">
              <a:off x="7303680" y="220824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 flipV="1">
              <a:off x="7169400" y="16408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 flipV="1">
              <a:off x="7888320" y="16408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7169400" y="1859040"/>
              <a:ext cx="71892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7423560" y="1498680"/>
              <a:ext cx="29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1f497d"/>
                  </a:solidFill>
                  <a:latin typeface="Comic Sans MS"/>
                  <a:ea typeface="Arial"/>
                </a:rPr>
                <a:t>l</a:t>
              </a:r>
              <a:r>
                <a:rPr b="0" lang="en-IE" sz="1600" spc="-1" strike="noStrike" baseline="-25000">
                  <a:solidFill>
                    <a:srgbClr val="1f497d"/>
                  </a:solidFill>
                  <a:latin typeface="Comic Sans MS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7997760" y="2001600"/>
              <a:ext cx="438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-q</a:t>
              </a:r>
              <a:r>
                <a:rPr b="0" lang="en-IE" sz="16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свакој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ковалентној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вез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остој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један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ар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е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04920" y="3627360"/>
          <a:ext cx="8839080" cy="3230640"/>
        </p:xfrm>
        <a:graphic>
          <a:graphicData uri="http://schemas.openxmlformats.org/drawingml/2006/table">
            <a:tbl>
              <a:tblPr/>
              <a:tblGrid>
                <a:gridCol w="2971800"/>
                <a:gridCol w="2921040"/>
                <a:gridCol w="2946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5c44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в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5c44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слободних електронских пар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5c44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5c44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5c44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5c44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, 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Text Box 37"/>
          <p:cNvSpPr/>
          <p:nvPr/>
        </p:nvSpPr>
        <p:spPr>
          <a:xfrm>
            <a:off x="285840" y="1214280"/>
            <a:ext cx="407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т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ног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њењ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спаре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ар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8" descr="Shapeof_ammonia"/>
          <p:cNvPicPr/>
          <p:nvPr/>
        </p:nvPicPr>
        <p:blipFill>
          <a:blip r:embed="rId1"/>
          <a:stretch/>
        </p:blipFill>
        <p:spPr>
          <a:xfrm>
            <a:off x="4071960" y="1214280"/>
            <a:ext cx="2087640" cy="194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0"/>
          <p:cNvSpPr/>
          <p:nvPr/>
        </p:nvSpPr>
        <p:spPr>
          <a:xfrm>
            <a:off x="6500880" y="221472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Везивн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1"/>
          <p:cNvSpPr/>
          <p:nvPr/>
        </p:nvSpPr>
        <p:spPr>
          <a:xfrm>
            <a:off x="6429240" y="107172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Невезивн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5715000" y="1285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3"/>
          <p:cNvSpPr/>
          <p:nvPr/>
        </p:nvSpPr>
        <p:spPr>
          <a:xfrm>
            <a:off x="5214960" y="2071800"/>
            <a:ext cx="128592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Down Arrow 10"/>
          <p:cNvSpPr/>
          <p:nvPr/>
        </p:nvSpPr>
        <p:spPr>
          <a:xfrm>
            <a:off x="8572680" y="2000160"/>
            <a:ext cx="285480" cy="15001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0" y="114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Неспарени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електронски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парови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се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одбијају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тако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да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молекул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има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облик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који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одговара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максимуму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обојних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сила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између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њих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ларно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ће зависити од невезивних и везивних електронских п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81000" y="5568840"/>
            <a:ext cx="87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582000" y="51436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Одбијање</a:t>
            </a:r>
            <a:r>
              <a:rPr b="1" i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2" descr="202co2"/>
          <p:cNvPicPr/>
          <p:nvPr/>
        </p:nvPicPr>
        <p:blipFill>
          <a:blip r:embed="rId1"/>
          <a:stretch/>
        </p:blipFill>
        <p:spPr>
          <a:xfrm>
            <a:off x="6724800" y="2854440"/>
            <a:ext cx="2419200" cy="2307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3" descr="205ammonia"/>
          <p:cNvPicPr/>
          <p:nvPr/>
        </p:nvPicPr>
        <p:blipFill>
          <a:blip r:embed="rId2"/>
          <a:stretch/>
        </p:blipFill>
        <p:spPr>
          <a:xfrm>
            <a:off x="3357720" y="2854440"/>
            <a:ext cx="3286080" cy="2274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4" descr="204methane"/>
          <p:cNvPicPr/>
          <p:nvPr/>
        </p:nvPicPr>
        <p:blipFill>
          <a:blip r:embed="rId3"/>
          <a:stretch/>
        </p:blipFill>
        <p:spPr>
          <a:xfrm>
            <a:off x="0" y="2854440"/>
            <a:ext cx="3222720" cy="223020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15"/>
          <p:cNvSpPr/>
          <p:nvPr/>
        </p:nvSpPr>
        <p:spPr>
          <a:xfrm rot="10800000">
            <a:off x="4071960" y="5640480"/>
            <a:ext cx="457200" cy="1217520"/>
          </a:xfrm>
          <a:prstGeom prst="upArrow">
            <a:avLst>
              <a:gd name="adj1" fmla="val 50000"/>
              <a:gd name="adj2" fmla="val 13313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own Arrow 9"/>
          <p:cNvSpPr/>
          <p:nvPr/>
        </p:nvSpPr>
        <p:spPr>
          <a:xfrm>
            <a:off x="8501040" y="5000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Down Arrow 10"/>
          <p:cNvSpPr/>
          <p:nvPr/>
        </p:nvSpPr>
        <p:spPr>
          <a:xfrm>
            <a:off x="3286080" y="50007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117_UN18.jpg                                                   00030FE6Macintosh HD                   ABA78158:"/>
          <p:cNvPicPr/>
          <p:nvPr/>
        </p:nvPicPr>
        <p:blipFill>
          <a:blip r:embed="rId1"/>
          <a:srcRect l="-1938" t="10716" r="10749" b="35718"/>
          <a:stretch/>
        </p:blipFill>
        <p:spPr>
          <a:xfrm>
            <a:off x="3772080" y="0"/>
            <a:ext cx="5371920" cy="342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"/>
          <p:cNvPicPr/>
          <p:nvPr/>
        </p:nvPicPr>
        <p:blipFill>
          <a:blip r:embed="rId2"/>
          <a:srcRect l="0" t="45165" r="0" b="0"/>
          <a:stretch/>
        </p:blipFill>
        <p:spPr>
          <a:xfrm>
            <a:off x="3929040" y="4429080"/>
            <a:ext cx="4937040" cy="2030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"/>
          <p:cNvPicPr/>
          <p:nvPr/>
        </p:nvPicPr>
        <p:blipFill>
          <a:blip r:embed="rId3"/>
          <a:stretch/>
        </p:blipFill>
        <p:spPr>
          <a:xfrm>
            <a:off x="4214880" y="3500280"/>
            <a:ext cx="1071360" cy="1003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"/>
          <p:cNvPicPr/>
          <p:nvPr/>
        </p:nvPicPr>
        <p:blipFill>
          <a:blip r:embed="rId4"/>
          <a:stretch/>
        </p:blipFill>
        <p:spPr>
          <a:xfrm>
            <a:off x="5929200" y="371484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0" y="2158200"/>
            <a:ext cx="43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бин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невезивнх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електронских пар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због одбојне електростатичке силе која делује међу њим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у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, просторни распоред атома – симетрију молеку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утиче на поларнос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2714760" y="1714680"/>
            <a:ext cx="3143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за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5857920" y="1714680"/>
            <a:ext cx="3286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в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за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Straight Arrow Connector 10"/>
          <p:cNvCxnSpPr/>
          <p:nvPr/>
        </p:nvCxnSpPr>
        <p:spPr>
          <a:xfrm flipH="1">
            <a:off x="6500160" y="2143080"/>
            <a:ext cx="143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29" name="Straight Arrow Connector 12"/>
          <p:cNvCxnSpPr/>
          <p:nvPr/>
        </p:nvCxnSpPr>
        <p:spPr>
          <a:xfrm>
            <a:off x="7999920" y="2142720"/>
            <a:ext cx="1436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0" y="0"/>
            <a:ext cx="59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м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омен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вод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343080" y="2143080"/>
            <a:ext cx="26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ql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) 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8" descr="H2Odipole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22543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6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А ЈЕ МОЛЕКУЛ КОЈИ ИМА ВЕЛИКИ ДИПОЛНИ МОМЕ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2"/>
          <p:cNvSpPr/>
          <p:nvPr/>
        </p:nvSpPr>
        <p:spPr>
          <a:xfrm>
            <a:off x="27000" y="714240"/>
            <a:ext cx="59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О=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 невезивна електронска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арцијално наелектрис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"/>
          <p:cNvGrpSpPr/>
          <p:nvPr/>
        </p:nvGrpSpPr>
        <p:grpSpPr>
          <a:xfrm>
            <a:off x="-360" y="2786040"/>
            <a:ext cx="9144360" cy="3138480"/>
            <a:chOff x="-360" y="2786040"/>
            <a:chExt cx="9144360" cy="3138480"/>
          </a:xfrm>
        </p:grpSpPr>
        <p:pic>
          <p:nvPicPr>
            <p:cNvPr id="436" name="Picture 11" descr="370750_la_13_04"/>
            <p:cNvPicPr/>
            <p:nvPr/>
          </p:nvPicPr>
          <p:blipFill>
            <a:blip r:embed="rId2"/>
            <a:stretch/>
          </p:blipFill>
          <p:spPr>
            <a:xfrm>
              <a:off x="1295280" y="2786040"/>
              <a:ext cx="49528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Oval 12"/>
            <p:cNvSpPr/>
            <p:nvPr/>
          </p:nvSpPr>
          <p:spPr>
            <a:xfrm>
              <a:off x="2057400" y="430992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3"/>
            <p:cNvSpPr/>
            <p:nvPr/>
          </p:nvSpPr>
          <p:spPr>
            <a:xfrm>
              <a:off x="-360" y="4081320"/>
              <a:ext cx="11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  <a:ea typeface="Arial"/>
                </a:rPr>
                <a:t>+ c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>
              <a:off x="1218960" y="4386240"/>
              <a:ext cx="7617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>
              <a:off x="2133360" y="4386240"/>
              <a:ext cx="457200" cy="0"/>
            </a:xfrm>
            <a:prstGeom prst="line">
              <a:avLst/>
            </a:prstGeom>
            <a:ln w="50760">
              <a:solidFill>
                <a:srgbClr val="ffd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 flipH="1">
              <a:off x="2438280" y="3624120"/>
              <a:ext cx="380880" cy="685800"/>
            </a:xfrm>
            <a:prstGeom prst="line">
              <a:avLst/>
            </a:prstGeom>
            <a:ln w="25560">
              <a:solidFill>
                <a:srgbClr val="ffd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63"/>
            <p:cNvGrpSpPr/>
            <p:nvPr/>
          </p:nvGrpSpPr>
          <p:grpSpPr>
            <a:xfrm>
              <a:off x="4071960" y="5000760"/>
              <a:ext cx="1904760" cy="923760"/>
              <a:chOff x="4071960" y="5000760"/>
              <a:chExt cx="1904760" cy="923760"/>
            </a:xfrm>
          </p:grpSpPr>
          <p:grpSp>
            <p:nvGrpSpPr>
              <p:cNvPr id="443" name="Flowchart: Connector 19"/>
              <p:cNvGrpSpPr/>
              <p:nvPr/>
            </p:nvGrpSpPr>
            <p:grpSpPr>
              <a:xfrm>
                <a:off x="4071960" y="5088960"/>
                <a:ext cx="1904760" cy="835560"/>
                <a:chOff x="4071960" y="5088960"/>
                <a:chExt cx="1904760" cy="835560"/>
              </a:xfrm>
            </p:grpSpPr>
            <p:pic>
              <p:nvPicPr>
                <p:cNvPr id="444" name="Flowchart: Connector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71960" y="5088960"/>
                  <a:ext cx="1904760" cy="83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" name=""/>
                <p:cNvSpPr/>
                <p:nvPr/>
              </p:nvSpPr>
              <p:spPr>
                <a:xfrm>
                  <a:off x="4336920" y="5198760"/>
                  <a:ext cx="111060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Rectangle 9"/>
              <p:cNvSpPr/>
              <p:nvPr/>
            </p:nvSpPr>
            <p:spPr>
              <a:xfrm>
                <a:off x="5019480" y="5063040"/>
                <a:ext cx="3542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8"/>
              <p:cNvSpPr/>
              <p:nvPr/>
            </p:nvSpPr>
            <p:spPr>
              <a:xfrm>
                <a:off x="4182840" y="5000760"/>
                <a:ext cx="58572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8" name="Picture 24" descr="C:\Users\Korisnik\Desktop\FARMACIJA 2012  i 2013\0916.jpg"/>
            <p:cNvPicPr/>
            <p:nvPr/>
          </p:nvPicPr>
          <p:blipFill>
            <a:blip r:embed="rId4"/>
            <a:srcRect l="48928" t="0" r="0" b="0"/>
            <a:stretch/>
          </p:blipFill>
          <p:spPr>
            <a:xfrm>
              <a:off x="6201000" y="3071520"/>
              <a:ext cx="2943000" cy="23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10"/>
            <p:cNvSpPr/>
            <p:nvPr/>
          </p:nvSpPr>
          <p:spPr>
            <a:xfrm>
              <a:off x="1596600" y="292860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астојање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6"/>
          <p:cNvSpPr/>
          <p:nvPr/>
        </p:nvSpPr>
        <p:spPr>
          <a:xfrm>
            <a:off x="6359760" y="23572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.8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36080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36080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0" y="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Поларни</a:t>
            </a:r>
            <a:r>
              <a:rPr b="1" lang="en-GB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sr-CS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молекули</a:t>
            </a:r>
            <a:r>
              <a:rPr b="1" lang="en-GB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ме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0" y="457200"/>
            <a:ext cx="942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м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в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р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ринос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мент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мена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кторск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бир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0" y="2133720"/>
            <a:ext cx="449568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17640" y="2286000"/>
            <a:ext cx="3204360" cy="459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Неполара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моле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1" descr="202co2"/>
          <p:cNvPicPr/>
          <p:nvPr/>
        </p:nvPicPr>
        <p:blipFill>
          <a:blip r:embed="rId1"/>
          <a:srcRect l="0" t="10485" r="0" b="58082"/>
          <a:stretch/>
        </p:blipFill>
        <p:spPr>
          <a:xfrm>
            <a:off x="0" y="2971800"/>
            <a:ext cx="2209680" cy="662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aphicFrame>
        <p:nvGraphicFramePr>
          <p:cNvPr id="456" name="Object 22"/>
          <p:cNvGraphicFramePr/>
          <p:nvPr/>
        </p:nvGraphicFramePr>
        <p:xfrm>
          <a:off x="2666880" y="2819520"/>
          <a:ext cx="16002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819520"/>
                    <a:ext cx="1600200" cy="838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Text Box 23"/>
          <p:cNvSpPr/>
          <p:nvPr/>
        </p:nvSpPr>
        <p:spPr>
          <a:xfrm>
            <a:off x="0" y="3657600"/>
            <a:ext cx="42670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Линер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СО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и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оларан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дипо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супротно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оријентиса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омент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једнак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у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и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оларан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4" descr=""/>
          <p:cNvPicPr/>
          <p:nvPr/>
        </p:nvPicPr>
        <p:blipFill>
          <a:blip r:embed="rId4"/>
          <a:srcRect l="0" t="0" r="0" b="46003"/>
          <a:stretch/>
        </p:blipFill>
        <p:spPr>
          <a:xfrm>
            <a:off x="2133720" y="4653000"/>
            <a:ext cx="2286000" cy="2205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25"/>
          <p:cNvSpPr/>
          <p:nvPr/>
        </p:nvSpPr>
        <p:spPr>
          <a:xfrm>
            <a:off x="241920" y="5715000"/>
            <a:ext cx="1957680" cy="405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Неполаран 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CCl</a:t>
            </a:r>
            <a:r>
              <a:rPr b="1" lang="sr-Latn-C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4648320" y="2286000"/>
            <a:ext cx="42670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8"/>
          <p:cNvSpPr/>
          <p:nvPr/>
        </p:nvSpPr>
        <p:spPr>
          <a:xfrm>
            <a:off x="4654080" y="2209680"/>
            <a:ext cx="2817360" cy="459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поларн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моле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9" descr="polar"/>
          <p:cNvPicPr/>
          <p:nvPr/>
        </p:nvPicPr>
        <p:blipFill>
          <a:blip r:embed="rId5"/>
          <a:stretch/>
        </p:blipFill>
        <p:spPr>
          <a:xfrm>
            <a:off x="7162920" y="2590920"/>
            <a:ext cx="1828800" cy="1697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0" descr=""/>
          <p:cNvPicPr/>
          <p:nvPr/>
        </p:nvPicPr>
        <p:blipFill>
          <a:blip r:embed="rId6"/>
          <a:srcRect l="0" t="56001" r="0" b="0"/>
          <a:stretch/>
        </p:blipFill>
        <p:spPr>
          <a:xfrm>
            <a:off x="4724280" y="4343400"/>
            <a:ext cx="3200400" cy="25146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32"/>
          <p:cNvSpPr/>
          <p:nvPr/>
        </p:nvSpPr>
        <p:spPr>
          <a:xfrm>
            <a:off x="5029200" y="2666880"/>
            <a:ext cx="11746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Polar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CH</a:t>
            </a:r>
            <a:r>
              <a:rPr b="1" lang="sr-Latn-C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CHCl</a:t>
            </a:r>
            <a:r>
              <a:rPr b="1" lang="sr-Latn-C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3"/>
          <p:cNvSpPr/>
          <p:nvPr/>
        </p:nvSpPr>
        <p:spPr>
          <a:xfrm flipV="1">
            <a:off x="6095880" y="27432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4"/>
          <p:cNvSpPr/>
          <p:nvPr/>
        </p:nvSpPr>
        <p:spPr>
          <a:xfrm>
            <a:off x="6019920" y="342900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57120" y="907920"/>
            <a:ext cx="87868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о наелектрисано тело има количину електрицитета једнаку целобројном умношку елементарне количине електрицитета коју носи електрон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 = 1.6 x 10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-19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</a:t>
            </a:r>
            <a:r>
              <a:rPr b="1" lang="sr-CS" sz="3200" spc="-1" strike="noStrike">
                <a:solidFill>
                  <a:srgbClr val="00279f"/>
                </a:solidFill>
                <a:latin typeface="Arial"/>
              </a:rPr>
              <a:t>  и броју електрона </a:t>
            </a:r>
            <a:r>
              <a:rPr b="1" lang="sr-Latn-CS" sz="3200" spc="-1" strike="noStrike">
                <a:solidFill>
                  <a:srgbClr val="00279f"/>
                </a:solidFill>
                <a:latin typeface="Arial"/>
              </a:rPr>
              <a:t> 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q = n 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електрисано је свако тело које није неутралисано супротно наелектрисаним честиц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на макроскопских тела под обичним условима показује електро неутрално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749160" y="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Наелектрисање је квантизира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C:\Users\Korisnik\Desktop\FARMACIJA 2012  i 2013\0918.jpg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2743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5786280" y="2571840"/>
            <a:ext cx="2409840" cy="75384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22"/>
          <p:cNvGrpSpPr/>
          <p:nvPr/>
        </p:nvGrpSpPr>
        <p:grpSpPr>
          <a:xfrm>
            <a:off x="3929040" y="3429000"/>
            <a:ext cx="2727360" cy="3428640"/>
            <a:chOff x="3929040" y="3429000"/>
            <a:chExt cx="2727360" cy="3428640"/>
          </a:xfrm>
        </p:grpSpPr>
        <p:sp>
          <p:nvSpPr>
            <p:cNvPr id="473" name="Text Box 11"/>
            <p:cNvSpPr/>
            <p:nvPr/>
          </p:nvSpPr>
          <p:spPr>
            <a:xfrm>
              <a:off x="4186800" y="3429000"/>
              <a:ext cx="2242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Без електричног поља случајна оријентациј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17" descr=""/>
            <p:cNvPicPr/>
            <p:nvPr/>
          </p:nvPicPr>
          <p:blipFill>
            <a:blip r:embed="rId3"/>
            <a:stretch/>
          </p:blipFill>
          <p:spPr>
            <a:xfrm>
              <a:off x="3929040" y="4248360"/>
              <a:ext cx="2727360" cy="260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23"/>
          <p:cNvGrpSpPr/>
          <p:nvPr/>
        </p:nvGrpSpPr>
        <p:grpSpPr>
          <a:xfrm>
            <a:off x="6572160" y="3429000"/>
            <a:ext cx="2571840" cy="3428640"/>
            <a:chOff x="6572160" y="3429000"/>
            <a:chExt cx="2571840" cy="3428640"/>
          </a:xfrm>
        </p:grpSpPr>
        <p:pic>
          <p:nvPicPr>
            <p:cNvPr id="476" name="Picture 15" descr=""/>
            <p:cNvPicPr/>
            <p:nvPr/>
          </p:nvPicPr>
          <p:blipFill>
            <a:blip r:embed="rId4"/>
            <a:stretch/>
          </p:blipFill>
          <p:spPr>
            <a:xfrm>
              <a:off x="6572160" y="4033800"/>
              <a:ext cx="2571840" cy="28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9"/>
            <p:cNvSpPr/>
            <p:nvPr/>
          </p:nvSpPr>
          <p:spPr>
            <a:xfrm>
              <a:off x="7133400" y="3429000"/>
              <a:ext cx="16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Електрично пољ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10"/>
          <p:cNvSpPr/>
          <p:nvPr/>
        </p:nvSpPr>
        <p:spPr>
          <a:xfrm>
            <a:off x="0" y="3071880"/>
            <a:ext cx="392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оларни молекули ће се оријентисати у електричном пољ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3505320" y="228600"/>
            <a:ext cx="1973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1f497d"/>
                </a:solidFill>
                <a:latin typeface="Arial"/>
                <a:ea typeface="Arial"/>
              </a:rPr>
              <a:t>katj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5" descr="cation_formation"/>
          <p:cNvPicPr/>
          <p:nvPr/>
        </p:nvPicPr>
        <p:blipFill>
          <a:blip r:embed="rId1"/>
          <a:stretch/>
        </p:blipFill>
        <p:spPr>
          <a:xfrm>
            <a:off x="152280" y="838080"/>
            <a:ext cx="8991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762120" y="228600"/>
            <a:ext cx="204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An</a:t>
            </a:r>
            <a:r>
              <a:rPr b="0" lang="sr-Latn-CS" sz="4400" spc="-1" strike="noStrike">
                <a:solidFill>
                  <a:srgbClr val="1f497d"/>
                </a:solidFill>
                <a:latin typeface="Arial"/>
                <a:ea typeface="Arial"/>
              </a:rPr>
              <a:t>j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on</a:t>
            </a:r>
            <a:r>
              <a:rPr b="0" lang="sr-Latn-CS" sz="44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anion_formation"/>
          <p:cNvPicPr/>
          <p:nvPr/>
        </p:nvPicPr>
        <p:blipFill>
          <a:blip r:embed="rId1"/>
          <a:stretch/>
        </p:blipFill>
        <p:spPr>
          <a:xfrm>
            <a:off x="281160" y="914400"/>
            <a:ext cx="8862840" cy="571032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7"/>
          <p:cNvSpPr/>
          <p:nvPr/>
        </p:nvSpPr>
        <p:spPr>
          <a:xfrm>
            <a:off x="0" y="23623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35712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SEPR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еор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57120" y="78588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рупе електрона око централног атома ће имати највећу стабилност ако се налазе међусобно на највећем могућем растојању, ове особине молекула описује теорија која се назива одбијање валентних електронских парова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alence shell electron pair repul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SEP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орија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јски распоред атома око централног атома ће зависити од  одбијања спарених и неспарених електронских пар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6"/>
          <p:cNvSpPr/>
          <p:nvPr/>
        </p:nvSpPr>
        <p:spPr>
          <a:xfrm>
            <a:off x="642960" y="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бијање група електрона и пет основних геометријских распореда атома око централног ато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23"/>
          <p:cNvGrpSpPr/>
          <p:nvPr/>
        </p:nvGrpSpPr>
        <p:grpSpPr>
          <a:xfrm>
            <a:off x="928800" y="1066680"/>
            <a:ext cx="1643040" cy="2725920"/>
            <a:chOff x="928800" y="1066680"/>
            <a:chExt cx="1643040" cy="2725920"/>
          </a:xfrm>
        </p:grpSpPr>
        <p:pic>
          <p:nvPicPr>
            <p:cNvPr id="489" name="Picture 3" descr=""/>
            <p:cNvPicPr/>
            <p:nvPr/>
          </p:nvPicPr>
          <p:blipFill>
            <a:blip r:embed="rId1"/>
            <a:stretch/>
          </p:blipFill>
          <p:spPr>
            <a:xfrm>
              <a:off x="928800" y="1066680"/>
              <a:ext cx="1563480" cy="14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14" descr=""/>
            <p:cNvPicPr/>
            <p:nvPr/>
          </p:nvPicPr>
          <p:blipFill>
            <a:blip r:embed="rId2"/>
            <a:stretch/>
          </p:blipFill>
          <p:spPr>
            <a:xfrm>
              <a:off x="990720" y="2590920"/>
              <a:ext cx="15714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20"/>
            <p:cNvSpPr/>
            <p:nvPr/>
          </p:nvSpPr>
          <p:spPr>
            <a:xfrm>
              <a:off x="1371600" y="24382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C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линеарн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6"/>
          <p:cNvGrpSpPr/>
          <p:nvPr/>
        </p:nvGrpSpPr>
        <p:grpSpPr>
          <a:xfrm>
            <a:off x="3214800" y="785880"/>
            <a:ext cx="2356920" cy="4428360"/>
            <a:chOff x="3214800" y="785880"/>
            <a:chExt cx="2356920" cy="4428360"/>
          </a:xfrm>
        </p:grpSpPr>
        <p:pic>
          <p:nvPicPr>
            <p:cNvPr id="493" name="Picture 4" descr=""/>
            <p:cNvPicPr/>
            <p:nvPr/>
          </p:nvPicPr>
          <p:blipFill>
            <a:blip r:embed="rId3"/>
            <a:stretch/>
          </p:blipFill>
          <p:spPr>
            <a:xfrm>
              <a:off x="3214800" y="785880"/>
              <a:ext cx="234252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15" descr=""/>
            <p:cNvPicPr/>
            <p:nvPr/>
          </p:nvPicPr>
          <p:blipFill>
            <a:blip r:embed="rId4"/>
            <a:stretch/>
          </p:blipFill>
          <p:spPr>
            <a:xfrm>
              <a:off x="3228480" y="3294720"/>
              <a:ext cx="2275200" cy="19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21"/>
            <p:cNvSpPr/>
            <p:nvPr/>
          </p:nvSpPr>
          <p:spPr>
            <a:xfrm>
              <a:off x="3214800" y="2952720"/>
              <a:ext cx="235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i="1" lang="sr-C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игонално планарн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27"/>
          <p:cNvGrpSpPr/>
          <p:nvPr/>
        </p:nvGrpSpPr>
        <p:grpSpPr>
          <a:xfrm>
            <a:off x="6286680" y="928800"/>
            <a:ext cx="1600200" cy="2879280"/>
            <a:chOff x="6286680" y="928800"/>
            <a:chExt cx="1600200" cy="2879280"/>
          </a:xfrm>
        </p:grpSpPr>
        <p:pic>
          <p:nvPicPr>
            <p:cNvPr id="497" name="Picture 5" descr=""/>
            <p:cNvPicPr/>
            <p:nvPr/>
          </p:nvPicPr>
          <p:blipFill>
            <a:blip r:embed="rId5"/>
            <a:stretch/>
          </p:blipFill>
          <p:spPr>
            <a:xfrm>
              <a:off x="6301080" y="928800"/>
              <a:ext cx="1508040" cy="14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7" descr=""/>
            <p:cNvPicPr/>
            <p:nvPr/>
          </p:nvPicPr>
          <p:blipFill>
            <a:blip r:embed="rId6"/>
            <a:srcRect l="0" t="8380" r="0" b="2756"/>
            <a:stretch/>
          </p:blipFill>
          <p:spPr>
            <a:xfrm>
              <a:off x="6439320" y="2528640"/>
              <a:ext cx="13986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2"/>
            <p:cNvSpPr/>
            <p:nvPr/>
          </p:nvSpPr>
          <p:spPr>
            <a:xfrm>
              <a:off x="6286680" y="23000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i="1" lang="sr-C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етраедарск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8"/>
          <p:cNvGrpSpPr/>
          <p:nvPr/>
        </p:nvGrpSpPr>
        <p:grpSpPr>
          <a:xfrm>
            <a:off x="0" y="4419720"/>
            <a:ext cx="3662280" cy="2438280"/>
            <a:chOff x="0" y="4419720"/>
            <a:chExt cx="3662280" cy="2438280"/>
          </a:xfrm>
        </p:grpSpPr>
        <p:pic>
          <p:nvPicPr>
            <p:cNvPr id="501" name="Picture 6" descr=""/>
            <p:cNvPicPr/>
            <p:nvPr/>
          </p:nvPicPr>
          <p:blipFill>
            <a:blip r:embed="rId7"/>
            <a:stretch/>
          </p:blipFill>
          <p:spPr>
            <a:xfrm>
              <a:off x="304920" y="4419720"/>
              <a:ext cx="158112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8" descr=""/>
            <p:cNvPicPr/>
            <p:nvPr/>
          </p:nvPicPr>
          <p:blipFill>
            <a:blip r:embed="rId8"/>
            <a:stretch/>
          </p:blipFill>
          <p:spPr>
            <a:xfrm>
              <a:off x="1905120" y="5334120"/>
              <a:ext cx="1757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24"/>
            <p:cNvSpPr/>
            <p:nvPr/>
          </p:nvSpPr>
          <p:spPr>
            <a:xfrm>
              <a:off x="0" y="594360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i="1" lang="sr-C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игонално бипиримидалн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29"/>
          <p:cNvGrpSpPr/>
          <p:nvPr/>
        </p:nvGrpSpPr>
        <p:grpSpPr>
          <a:xfrm>
            <a:off x="5877000" y="4559400"/>
            <a:ext cx="3267000" cy="2298240"/>
            <a:chOff x="5877000" y="4559400"/>
            <a:chExt cx="3267000" cy="2298240"/>
          </a:xfrm>
        </p:grpSpPr>
        <p:pic>
          <p:nvPicPr>
            <p:cNvPr id="505" name="Picture 7" descr=""/>
            <p:cNvPicPr/>
            <p:nvPr/>
          </p:nvPicPr>
          <p:blipFill>
            <a:blip r:embed="rId9"/>
            <a:stretch/>
          </p:blipFill>
          <p:spPr>
            <a:xfrm>
              <a:off x="5953320" y="4559400"/>
              <a:ext cx="1581120" cy="142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19" descr=""/>
            <p:cNvPicPr/>
            <p:nvPr/>
          </p:nvPicPr>
          <p:blipFill>
            <a:blip r:embed="rId10"/>
            <a:stretch/>
          </p:blipFill>
          <p:spPr>
            <a:xfrm>
              <a:off x="7553520" y="5321160"/>
              <a:ext cx="159048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Text Box 25"/>
            <p:cNvSpPr/>
            <p:nvPr/>
          </p:nvSpPr>
          <p:spPr>
            <a:xfrm>
              <a:off x="5877000" y="60069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C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Октадедарск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" descr="10_Pg401_UnFigure_1"/>
          <p:cNvPicPr/>
          <p:nvPr/>
        </p:nvPicPr>
        <p:blipFill>
          <a:blip r:embed="rId1"/>
          <a:stretch/>
        </p:blipFill>
        <p:spPr>
          <a:xfrm>
            <a:off x="673200" y="763560"/>
            <a:ext cx="7797600" cy="532944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11"/>
          <p:cNvSpPr/>
          <p:nvPr/>
        </p:nvSpPr>
        <p:spPr>
          <a:xfrm>
            <a:off x="5334120" y="5410080"/>
            <a:ext cx="3581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, HCN, Be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1343160" y="571680"/>
            <a:ext cx="78008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Два електронска пара на централном атому , линерна геометриј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10_02_FigureB"/>
          <p:cNvPicPr/>
          <p:nvPr/>
        </p:nvPicPr>
        <p:blipFill>
          <a:blip r:embed="rId1"/>
          <a:stretch/>
        </p:blipFill>
        <p:spPr>
          <a:xfrm>
            <a:off x="990720" y="380880"/>
            <a:ext cx="3968640" cy="6132600"/>
          </a:xfrm>
          <a:prstGeom prst="rect">
            <a:avLst/>
          </a:prstGeom>
          <a:ln w="0">
            <a:noFill/>
          </a:ln>
        </p:spPr>
      </p:pic>
      <p:sp>
        <p:nvSpPr>
          <p:cNvPr id="512" name="TextBox 2"/>
          <p:cNvSpPr/>
          <p:nvPr/>
        </p:nvSpPr>
        <p:spPr>
          <a:xfrm>
            <a:off x="4357800" y="1571760"/>
            <a:ext cx="47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Три електронска пара на централном ат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3124080"/>
            <a:ext cx="26668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 B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2"/>
          <a:srcRect l="1828" t="0" r="6957" b="0"/>
          <a:stretch/>
        </p:blipFill>
        <p:spPr>
          <a:xfrm>
            <a:off x="5334120" y="3571920"/>
            <a:ext cx="3809880" cy="23781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105520" y="4648320"/>
            <a:ext cx="7617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5791320" y="6004080"/>
            <a:ext cx="2743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Pb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Sn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8" descr="10_Pg402_UnFigure_2"/>
          <p:cNvPicPr/>
          <p:nvPr/>
        </p:nvPicPr>
        <p:blipFill>
          <a:blip r:embed="rId1"/>
          <a:stretch/>
        </p:blipFill>
        <p:spPr>
          <a:xfrm>
            <a:off x="0" y="1428840"/>
            <a:ext cx="4226040" cy="3071880"/>
          </a:xfrm>
          <a:prstGeom prst="rect">
            <a:avLst/>
          </a:prstGeom>
          <a:ln w="0">
            <a:noFill/>
          </a:ln>
        </p:spPr>
      </p:pic>
      <p:sp>
        <p:nvSpPr>
          <p:cNvPr id="518" name="TextBox 2"/>
          <p:cNvSpPr/>
          <p:nvPr/>
        </p:nvSpPr>
        <p:spPr>
          <a:xfrm>
            <a:off x="60948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Четири електронска пара на централном ат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0" y="4643280"/>
            <a:ext cx="16002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S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Cl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10_Pg404_UnFigure_2"/>
          <p:cNvPicPr/>
          <p:nvPr/>
        </p:nvPicPr>
        <p:blipFill>
          <a:blip r:embed="rId2"/>
          <a:stretch/>
        </p:blipFill>
        <p:spPr>
          <a:xfrm>
            <a:off x="4343400" y="1428840"/>
            <a:ext cx="4800600" cy="31352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12"/>
          <p:cNvSpPr/>
          <p:nvPr/>
        </p:nvSpPr>
        <p:spPr>
          <a:xfrm>
            <a:off x="4714920" y="5072040"/>
            <a:ext cx="403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l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7" descr="10_Pg403_UnFigure_2"/>
          <p:cNvPicPr/>
          <p:nvPr/>
        </p:nvPicPr>
        <p:blipFill>
          <a:blip r:embed="rId1"/>
          <a:stretch/>
        </p:blipFill>
        <p:spPr>
          <a:xfrm>
            <a:off x="357120" y="1285920"/>
            <a:ext cx="3743280" cy="2854440"/>
          </a:xfrm>
          <a:prstGeom prst="rect">
            <a:avLst/>
          </a:prstGeom>
          <a:ln w="0">
            <a:noFill/>
          </a:ln>
        </p:spPr>
      </p:pic>
      <p:sp>
        <p:nvSpPr>
          <p:cNvPr id="523" name="TextBox 2"/>
          <p:cNvSpPr/>
          <p:nvPr/>
        </p:nvSpPr>
        <p:spPr>
          <a:xfrm>
            <a:off x="60948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Пет електронских парова око централног ато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10_Pg406_UnFigure_1"/>
          <p:cNvPicPr/>
          <p:nvPr/>
        </p:nvPicPr>
        <p:blipFill>
          <a:blip r:embed="rId2"/>
          <a:stretch/>
        </p:blipFill>
        <p:spPr>
          <a:xfrm>
            <a:off x="571680" y="4290840"/>
            <a:ext cx="4560840" cy="25671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10_Pg406_UnFigure_2"/>
          <p:cNvPicPr/>
          <p:nvPr/>
        </p:nvPicPr>
        <p:blipFill>
          <a:blip r:embed="rId3"/>
          <a:stretch/>
        </p:blipFill>
        <p:spPr>
          <a:xfrm>
            <a:off x="4579920" y="1285920"/>
            <a:ext cx="4564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50920" y="141300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акон одржања количине електрицит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купна количина наелектрисања је констант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е не може бити створено нити уништено може бити само пренето са једног тела на друг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7" descr="10_Pg403_UnFigure_4"/>
          <p:cNvPicPr/>
          <p:nvPr/>
        </p:nvPicPr>
        <p:blipFill>
          <a:blip r:embed="rId1"/>
          <a:stretch/>
        </p:blipFill>
        <p:spPr>
          <a:xfrm>
            <a:off x="4929120" y="857160"/>
            <a:ext cx="3857760" cy="30654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2"/>
          <p:cNvSpPr/>
          <p:nvPr/>
        </p:nvSpPr>
        <p:spPr>
          <a:xfrm>
            <a:off x="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Шест електронских парова око централног ато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10_Pg407_UnFigure_2"/>
          <p:cNvPicPr/>
          <p:nvPr/>
        </p:nvPicPr>
        <p:blipFill>
          <a:blip r:embed="rId2"/>
          <a:stretch/>
        </p:blipFill>
        <p:spPr>
          <a:xfrm>
            <a:off x="3538440" y="4214880"/>
            <a:ext cx="5605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0" y="3016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о тело је наелектрисано негативно ако садржи вишак електрона, а позитивно, ако има мањак електрона, у односу на број који садржи када је електронеутрал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о је у сагласности са законом одржања количине електрицитета којим је исказана чиљеница да наелектрисања не настају и не исчезавају већ се само преносе са једног тела на друго, или се прерасподељују унутар самог тела. Наиме, ако се неко тело наелектрише негативном количином електрицитета -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друго тело садржи исту количину позитивног наелектрисања +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електрисавање тела може се извршити на разне начине: додиром, трењем, електросттичком индукцијом, фото или термо јонизацијом ит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28600" y="10666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685800" y="42670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2590920" y="1266840"/>
            <a:ext cx="463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cf0e30"/>
                </a:solidFill>
                <a:latin typeface="Arial"/>
                <a:ea typeface="Arial"/>
              </a:rPr>
              <a:t>П</a:t>
            </a:r>
            <a:r>
              <a:rPr b="0" lang="en-US" sz="3200" spc="-1" strike="noStrike">
                <a:solidFill>
                  <a:srgbClr val="cf0e30"/>
                </a:solidFill>
                <a:latin typeface="Arial"/>
                <a:ea typeface="Arial"/>
              </a:rPr>
              <a:t>ренос наелектрис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2819520" y="2286000"/>
            <a:ext cx="3354120" cy="167796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2113" h="1057">
                <a:moveTo>
                  <a:pt x="0" y="418"/>
                </a:moveTo>
                <a:lnTo>
                  <a:pt x="58" y="376"/>
                </a:lnTo>
                <a:lnTo>
                  <a:pt x="143" y="358"/>
                </a:lnTo>
                <a:lnTo>
                  <a:pt x="227" y="322"/>
                </a:lnTo>
                <a:lnTo>
                  <a:pt x="275" y="285"/>
                </a:lnTo>
                <a:lnTo>
                  <a:pt x="311" y="285"/>
                </a:lnTo>
                <a:lnTo>
                  <a:pt x="395" y="233"/>
                </a:lnTo>
                <a:lnTo>
                  <a:pt x="479" y="233"/>
                </a:lnTo>
                <a:lnTo>
                  <a:pt x="563" y="233"/>
                </a:lnTo>
                <a:lnTo>
                  <a:pt x="719" y="233"/>
                </a:lnTo>
                <a:lnTo>
                  <a:pt x="779" y="233"/>
                </a:lnTo>
                <a:lnTo>
                  <a:pt x="815" y="233"/>
                </a:lnTo>
                <a:lnTo>
                  <a:pt x="947" y="233"/>
                </a:lnTo>
                <a:lnTo>
                  <a:pt x="1007" y="233"/>
                </a:lnTo>
                <a:lnTo>
                  <a:pt x="1055" y="233"/>
                </a:lnTo>
                <a:lnTo>
                  <a:pt x="1091" y="196"/>
                </a:lnTo>
                <a:lnTo>
                  <a:pt x="1151" y="161"/>
                </a:lnTo>
                <a:lnTo>
                  <a:pt x="1199" y="161"/>
                </a:lnTo>
                <a:lnTo>
                  <a:pt x="1235" y="125"/>
                </a:lnTo>
                <a:lnTo>
                  <a:pt x="1283" y="107"/>
                </a:lnTo>
                <a:lnTo>
                  <a:pt x="1320" y="107"/>
                </a:lnTo>
                <a:lnTo>
                  <a:pt x="1367" y="72"/>
                </a:lnTo>
                <a:lnTo>
                  <a:pt x="1403" y="35"/>
                </a:lnTo>
                <a:lnTo>
                  <a:pt x="1475" y="35"/>
                </a:lnTo>
                <a:lnTo>
                  <a:pt x="1511" y="0"/>
                </a:lnTo>
                <a:lnTo>
                  <a:pt x="1535" y="53"/>
                </a:lnTo>
                <a:lnTo>
                  <a:pt x="2112" y="544"/>
                </a:lnTo>
                <a:lnTo>
                  <a:pt x="2087" y="590"/>
                </a:lnTo>
                <a:lnTo>
                  <a:pt x="2027" y="644"/>
                </a:lnTo>
                <a:lnTo>
                  <a:pt x="2003" y="680"/>
                </a:lnTo>
                <a:lnTo>
                  <a:pt x="1967" y="716"/>
                </a:lnTo>
                <a:lnTo>
                  <a:pt x="1919" y="751"/>
                </a:lnTo>
                <a:lnTo>
                  <a:pt x="1859" y="770"/>
                </a:lnTo>
                <a:lnTo>
                  <a:pt x="1799" y="770"/>
                </a:lnTo>
                <a:lnTo>
                  <a:pt x="1752" y="770"/>
                </a:lnTo>
                <a:lnTo>
                  <a:pt x="1691" y="805"/>
                </a:lnTo>
                <a:lnTo>
                  <a:pt x="1631" y="805"/>
                </a:lnTo>
                <a:lnTo>
                  <a:pt x="1584" y="840"/>
                </a:lnTo>
                <a:lnTo>
                  <a:pt x="1547" y="840"/>
                </a:lnTo>
                <a:lnTo>
                  <a:pt x="1523" y="840"/>
                </a:lnTo>
                <a:lnTo>
                  <a:pt x="1463" y="840"/>
                </a:lnTo>
                <a:lnTo>
                  <a:pt x="1391" y="877"/>
                </a:lnTo>
                <a:lnTo>
                  <a:pt x="1355" y="877"/>
                </a:lnTo>
                <a:lnTo>
                  <a:pt x="1295" y="877"/>
                </a:lnTo>
                <a:lnTo>
                  <a:pt x="1247" y="877"/>
                </a:lnTo>
                <a:lnTo>
                  <a:pt x="1211" y="894"/>
                </a:lnTo>
                <a:lnTo>
                  <a:pt x="1187" y="894"/>
                </a:lnTo>
                <a:lnTo>
                  <a:pt x="1127" y="894"/>
                </a:lnTo>
                <a:lnTo>
                  <a:pt x="1079" y="894"/>
                </a:lnTo>
                <a:lnTo>
                  <a:pt x="1043" y="894"/>
                </a:lnTo>
                <a:lnTo>
                  <a:pt x="995" y="894"/>
                </a:lnTo>
                <a:lnTo>
                  <a:pt x="935" y="931"/>
                </a:lnTo>
                <a:lnTo>
                  <a:pt x="851" y="931"/>
                </a:lnTo>
                <a:lnTo>
                  <a:pt x="791" y="966"/>
                </a:lnTo>
                <a:lnTo>
                  <a:pt x="743" y="1002"/>
                </a:lnTo>
                <a:lnTo>
                  <a:pt x="707" y="1002"/>
                </a:lnTo>
                <a:lnTo>
                  <a:pt x="623" y="1020"/>
                </a:lnTo>
                <a:lnTo>
                  <a:pt x="575" y="1020"/>
                </a:lnTo>
                <a:lnTo>
                  <a:pt x="539" y="1056"/>
                </a:lnTo>
                <a:lnTo>
                  <a:pt x="467" y="1056"/>
                </a:lnTo>
                <a:lnTo>
                  <a:pt x="431" y="1056"/>
                </a:lnTo>
                <a:lnTo>
                  <a:pt x="371" y="1056"/>
                </a:lnTo>
                <a:lnTo>
                  <a:pt x="323" y="1056"/>
                </a:lnTo>
                <a:lnTo>
                  <a:pt x="299" y="1056"/>
                </a:lnTo>
                <a:lnTo>
                  <a:pt x="0" y="41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f6f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9"/>
          <p:cNvGrpSpPr/>
          <p:nvPr/>
        </p:nvGrpSpPr>
        <p:grpSpPr>
          <a:xfrm>
            <a:off x="4572000" y="2292480"/>
            <a:ext cx="2805840" cy="2064960"/>
            <a:chOff x="4572000" y="2292480"/>
            <a:chExt cx="2805840" cy="2064960"/>
          </a:xfrm>
        </p:grpSpPr>
        <p:sp>
          <p:nvSpPr>
            <p:cNvPr id="72" name="Oval 15"/>
            <p:cNvSpPr/>
            <p:nvPr/>
          </p:nvSpPr>
          <p:spPr>
            <a:xfrm>
              <a:off x="4578480" y="2292480"/>
              <a:ext cx="520560" cy="2156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5340240" y="3587760"/>
              <a:ext cx="520920" cy="291960"/>
            </a:xfrm>
            <a:prstGeom prst="ellipse">
              <a:avLst/>
            </a:prstGeom>
            <a:solidFill>
              <a:srgbClr val="f4557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4572000" y="2362320"/>
              <a:ext cx="1297080" cy="14493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817" h="913">
                  <a:moveTo>
                    <a:pt x="0" y="0"/>
                  </a:moveTo>
                  <a:lnTo>
                    <a:pt x="480" y="912"/>
                  </a:lnTo>
                  <a:lnTo>
                    <a:pt x="816" y="864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4864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8"/>
            <p:cNvSpPr/>
            <p:nvPr/>
          </p:nvSpPr>
          <p:spPr>
            <a:xfrm>
              <a:off x="5328000" y="3994200"/>
              <a:ext cx="204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С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таклени штап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2049840" y="4929120"/>
            <a:ext cx="563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279f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еки материјали привлаче електр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28600" y="10666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685800" y="42670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3"/>
          <p:cNvSpPr/>
          <p:nvPr/>
        </p:nvSpPr>
        <p:spPr>
          <a:xfrm>
            <a:off x="2819520" y="2286000"/>
            <a:ext cx="3354120" cy="167796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2113" h="1057">
                <a:moveTo>
                  <a:pt x="0" y="418"/>
                </a:moveTo>
                <a:lnTo>
                  <a:pt x="58" y="376"/>
                </a:lnTo>
                <a:lnTo>
                  <a:pt x="143" y="358"/>
                </a:lnTo>
                <a:lnTo>
                  <a:pt x="227" y="322"/>
                </a:lnTo>
                <a:lnTo>
                  <a:pt x="275" y="285"/>
                </a:lnTo>
                <a:lnTo>
                  <a:pt x="311" y="285"/>
                </a:lnTo>
                <a:lnTo>
                  <a:pt x="395" y="233"/>
                </a:lnTo>
                <a:lnTo>
                  <a:pt x="479" y="233"/>
                </a:lnTo>
                <a:lnTo>
                  <a:pt x="563" y="233"/>
                </a:lnTo>
                <a:lnTo>
                  <a:pt x="719" y="233"/>
                </a:lnTo>
                <a:lnTo>
                  <a:pt x="779" y="233"/>
                </a:lnTo>
                <a:lnTo>
                  <a:pt x="815" y="233"/>
                </a:lnTo>
                <a:lnTo>
                  <a:pt x="947" y="233"/>
                </a:lnTo>
                <a:lnTo>
                  <a:pt x="1007" y="233"/>
                </a:lnTo>
                <a:lnTo>
                  <a:pt x="1055" y="233"/>
                </a:lnTo>
                <a:lnTo>
                  <a:pt x="1091" y="196"/>
                </a:lnTo>
                <a:lnTo>
                  <a:pt x="1151" y="161"/>
                </a:lnTo>
                <a:lnTo>
                  <a:pt x="1199" y="161"/>
                </a:lnTo>
                <a:lnTo>
                  <a:pt x="1235" y="125"/>
                </a:lnTo>
                <a:lnTo>
                  <a:pt x="1283" y="107"/>
                </a:lnTo>
                <a:lnTo>
                  <a:pt x="1320" y="107"/>
                </a:lnTo>
                <a:lnTo>
                  <a:pt x="1367" y="72"/>
                </a:lnTo>
                <a:lnTo>
                  <a:pt x="1403" y="35"/>
                </a:lnTo>
                <a:lnTo>
                  <a:pt x="1475" y="35"/>
                </a:lnTo>
                <a:lnTo>
                  <a:pt x="1511" y="0"/>
                </a:lnTo>
                <a:lnTo>
                  <a:pt x="1535" y="53"/>
                </a:lnTo>
                <a:lnTo>
                  <a:pt x="2112" y="544"/>
                </a:lnTo>
                <a:lnTo>
                  <a:pt x="2087" y="590"/>
                </a:lnTo>
                <a:lnTo>
                  <a:pt x="2027" y="644"/>
                </a:lnTo>
                <a:lnTo>
                  <a:pt x="2003" y="680"/>
                </a:lnTo>
                <a:lnTo>
                  <a:pt x="1967" y="716"/>
                </a:lnTo>
                <a:lnTo>
                  <a:pt x="1919" y="751"/>
                </a:lnTo>
                <a:lnTo>
                  <a:pt x="1859" y="770"/>
                </a:lnTo>
                <a:lnTo>
                  <a:pt x="1799" y="770"/>
                </a:lnTo>
                <a:lnTo>
                  <a:pt x="1752" y="770"/>
                </a:lnTo>
                <a:lnTo>
                  <a:pt x="1691" y="805"/>
                </a:lnTo>
                <a:lnTo>
                  <a:pt x="1631" y="805"/>
                </a:lnTo>
                <a:lnTo>
                  <a:pt x="1584" y="840"/>
                </a:lnTo>
                <a:lnTo>
                  <a:pt x="1547" y="840"/>
                </a:lnTo>
                <a:lnTo>
                  <a:pt x="1523" y="840"/>
                </a:lnTo>
                <a:lnTo>
                  <a:pt x="1463" y="840"/>
                </a:lnTo>
                <a:lnTo>
                  <a:pt x="1391" y="877"/>
                </a:lnTo>
                <a:lnTo>
                  <a:pt x="1355" y="877"/>
                </a:lnTo>
                <a:lnTo>
                  <a:pt x="1295" y="877"/>
                </a:lnTo>
                <a:lnTo>
                  <a:pt x="1247" y="877"/>
                </a:lnTo>
                <a:lnTo>
                  <a:pt x="1211" y="894"/>
                </a:lnTo>
                <a:lnTo>
                  <a:pt x="1187" y="894"/>
                </a:lnTo>
                <a:lnTo>
                  <a:pt x="1127" y="894"/>
                </a:lnTo>
                <a:lnTo>
                  <a:pt x="1079" y="894"/>
                </a:lnTo>
                <a:lnTo>
                  <a:pt x="1043" y="894"/>
                </a:lnTo>
                <a:lnTo>
                  <a:pt x="995" y="894"/>
                </a:lnTo>
                <a:lnTo>
                  <a:pt x="935" y="931"/>
                </a:lnTo>
                <a:lnTo>
                  <a:pt x="851" y="931"/>
                </a:lnTo>
                <a:lnTo>
                  <a:pt x="791" y="966"/>
                </a:lnTo>
                <a:lnTo>
                  <a:pt x="743" y="1002"/>
                </a:lnTo>
                <a:lnTo>
                  <a:pt x="707" y="1002"/>
                </a:lnTo>
                <a:lnTo>
                  <a:pt x="623" y="1020"/>
                </a:lnTo>
                <a:lnTo>
                  <a:pt x="575" y="1020"/>
                </a:lnTo>
                <a:lnTo>
                  <a:pt x="539" y="1056"/>
                </a:lnTo>
                <a:lnTo>
                  <a:pt x="467" y="1056"/>
                </a:lnTo>
                <a:lnTo>
                  <a:pt x="431" y="1056"/>
                </a:lnTo>
                <a:lnTo>
                  <a:pt x="371" y="1056"/>
                </a:lnTo>
                <a:lnTo>
                  <a:pt x="323" y="1056"/>
                </a:lnTo>
                <a:lnTo>
                  <a:pt x="299" y="1056"/>
                </a:lnTo>
                <a:lnTo>
                  <a:pt x="0" y="41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f6f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5857560" y="2577960"/>
            <a:ext cx="101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с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9"/>
          <p:cNvGrpSpPr/>
          <p:nvPr/>
        </p:nvGrpSpPr>
        <p:grpSpPr>
          <a:xfrm>
            <a:off x="4267080" y="2368440"/>
            <a:ext cx="2806200" cy="2065320"/>
            <a:chOff x="4267080" y="2368440"/>
            <a:chExt cx="2806200" cy="2065320"/>
          </a:xfrm>
        </p:grpSpPr>
        <p:sp>
          <p:nvSpPr>
            <p:cNvPr id="88" name="Oval 15"/>
            <p:cNvSpPr/>
            <p:nvPr/>
          </p:nvSpPr>
          <p:spPr>
            <a:xfrm>
              <a:off x="4273560" y="2368440"/>
              <a:ext cx="520560" cy="2160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6"/>
            <p:cNvSpPr/>
            <p:nvPr/>
          </p:nvSpPr>
          <p:spPr>
            <a:xfrm>
              <a:off x="5035680" y="3664080"/>
              <a:ext cx="520560" cy="291960"/>
            </a:xfrm>
            <a:prstGeom prst="ellipse">
              <a:avLst/>
            </a:prstGeom>
            <a:solidFill>
              <a:srgbClr val="f4557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4267080" y="2438280"/>
              <a:ext cx="1297080" cy="14493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817" h="913">
                  <a:moveTo>
                    <a:pt x="0" y="0"/>
                  </a:moveTo>
                  <a:lnTo>
                    <a:pt x="480" y="912"/>
                  </a:lnTo>
                  <a:lnTo>
                    <a:pt x="816" y="864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4864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8"/>
            <p:cNvSpPr/>
            <p:nvPr/>
          </p:nvSpPr>
          <p:spPr>
            <a:xfrm>
              <a:off x="5023440" y="4070520"/>
              <a:ext cx="204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С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таклени штап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20"/>
          <p:cNvSpPr/>
          <p:nvPr/>
        </p:nvSpPr>
        <p:spPr>
          <a:xfrm>
            <a:off x="5319720" y="2668680"/>
            <a:ext cx="39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4710240" y="27925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1415880" y="4862520"/>
            <a:ext cx="6513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279f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ко се штапић протрља свилом електрони ће са штапића прећи на св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" y="10666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5800" y="42670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3"/>
          <p:cNvSpPr/>
          <p:nvPr/>
        </p:nvSpPr>
        <p:spPr>
          <a:xfrm>
            <a:off x="2819520" y="2286000"/>
            <a:ext cx="3354120" cy="167796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2113" h="1057">
                <a:moveTo>
                  <a:pt x="0" y="418"/>
                </a:moveTo>
                <a:lnTo>
                  <a:pt x="58" y="376"/>
                </a:lnTo>
                <a:lnTo>
                  <a:pt x="143" y="358"/>
                </a:lnTo>
                <a:lnTo>
                  <a:pt x="227" y="322"/>
                </a:lnTo>
                <a:lnTo>
                  <a:pt x="275" y="285"/>
                </a:lnTo>
                <a:lnTo>
                  <a:pt x="311" y="285"/>
                </a:lnTo>
                <a:lnTo>
                  <a:pt x="395" y="233"/>
                </a:lnTo>
                <a:lnTo>
                  <a:pt x="479" y="233"/>
                </a:lnTo>
                <a:lnTo>
                  <a:pt x="563" y="233"/>
                </a:lnTo>
                <a:lnTo>
                  <a:pt x="719" y="233"/>
                </a:lnTo>
                <a:lnTo>
                  <a:pt x="779" y="233"/>
                </a:lnTo>
                <a:lnTo>
                  <a:pt x="815" y="233"/>
                </a:lnTo>
                <a:lnTo>
                  <a:pt x="947" y="233"/>
                </a:lnTo>
                <a:lnTo>
                  <a:pt x="1007" y="233"/>
                </a:lnTo>
                <a:lnTo>
                  <a:pt x="1055" y="233"/>
                </a:lnTo>
                <a:lnTo>
                  <a:pt x="1091" y="196"/>
                </a:lnTo>
                <a:lnTo>
                  <a:pt x="1151" y="161"/>
                </a:lnTo>
                <a:lnTo>
                  <a:pt x="1199" y="161"/>
                </a:lnTo>
                <a:lnTo>
                  <a:pt x="1235" y="125"/>
                </a:lnTo>
                <a:lnTo>
                  <a:pt x="1283" y="107"/>
                </a:lnTo>
                <a:lnTo>
                  <a:pt x="1320" y="107"/>
                </a:lnTo>
                <a:lnTo>
                  <a:pt x="1367" y="72"/>
                </a:lnTo>
                <a:lnTo>
                  <a:pt x="1403" y="35"/>
                </a:lnTo>
                <a:lnTo>
                  <a:pt x="1475" y="35"/>
                </a:lnTo>
                <a:lnTo>
                  <a:pt x="1511" y="0"/>
                </a:lnTo>
                <a:lnTo>
                  <a:pt x="1535" y="53"/>
                </a:lnTo>
                <a:lnTo>
                  <a:pt x="2112" y="544"/>
                </a:lnTo>
                <a:lnTo>
                  <a:pt x="2087" y="590"/>
                </a:lnTo>
                <a:lnTo>
                  <a:pt x="2027" y="644"/>
                </a:lnTo>
                <a:lnTo>
                  <a:pt x="2003" y="680"/>
                </a:lnTo>
                <a:lnTo>
                  <a:pt x="1967" y="716"/>
                </a:lnTo>
                <a:lnTo>
                  <a:pt x="1919" y="751"/>
                </a:lnTo>
                <a:lnTo>
                  <a:pt x="1859" y="770"/>
                </a:lnTo>
                <a:lnTo>
                  <a:pt x="1799" y="770"/>
                </a:lnTo>
                <a:lnTo>
                  <a:pt x="1752" y="770"/>
                </a:lnTo>
                <a:lnTo>
                  <a:pt x="1691" y="805"/>
                </a:lnTo>
                <a:lnTo>
                  <a:pt x="1631" y="805"/>
                </a:lnTo>
                <a:lnTo>
                  <a:pt x="1584" y="840"/>
                </a:lnTo>
                <a:lnTo>
                  <a:pt x="1547" y="840"/>
                </a:lnTo>
                <a:lnTo>
                  <a:pt x="1523" y="840"/>
                </a:lnTo>
                <a:lnTo>
                  <a:pt x="1463" y="840"/>
                </a:lnTo>
                <a:lnTo>
                  <a:pt x="1391" y="877"/>
                </a:lnTo>
                <a:lnTo>
                  <a:pt x="1355" y="877"/>
                </a:lnTo>
                <a:lnTo>
                  <a:pt x="1295" y="877"/>
                </a:lnTo>
                <a:lnTo>
                  <a:pt x="1247" y="877"/>
                </a:lnTo>
                <a:lnTo>
                  <a:pt x="1211" y="894"/>
                </a:lnTo>
                <a:lnTo>
                  <a:pt x="1187" y="894"/>
                </a:lnTo>
                <a:lnTo>
                  <a:pt x="1127" y="894"/>
                </a:lnTo>
                <a:lnTo>
                  <a:pt x="1079" y="894"/>
                </a:lnTo>
                <a:lnTo>
                  <a:pt x="1043" y="894"/>
                </a:lnTo>
                <a:lnTo>
                  <a:pt x="995" y="894"/>
                </a:lnTo>
                <a:lnTo>
                  <a:pt x="935" y="931"/>
                </a:lnTo>
                <a:lnTo>
                  <a:pt x="851" y="931"/>
                </a:lnTo>
                <a:lnTo>
                  <a:pt x="791" y="966"/>
                </a:lnTo>
                <a:lnTo>
                  <a:pt x="743" y="1002"/>
                </a:lnTo>
                <a:lnTo>
                  <a:pt x="707" y="1002"/>
                </a:lnTo>
                <a:lnTo>
                  <a:pt x="623" y="1020"/>
                </a:lnTo>
                <a:lnTo>
                  <a:pt x="575" y="1020"/>
                </a:lnTo>
                <a:lnTo>
                  <a:pt x="539" y="1056"/>
                </a:lnTo>
                <a:lnTo>
                  <a:pt x="467" y="1056"/>
                </a:lnTo>
                <a:lnTo>
                  <a:pt x="431" y="1056"/>
                </a:lnTo>
                <a:lnTo>
                  <a:pt x="371" y="1056"/>
                </a:lnTo>
                <a:lnTo>
                  <a:pt x="323" y="1056"/>
                </a:lnTo>
                <a:lnTo>
                  <a:pt x="299" y="1056"/>
                </a:lnTo>
                <a:lnTo>
                  <a:pt x="0" y="41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f6f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3733920" y="2368440"/>
            <a:ext cx="1296720" cy="1587600"/>
            <a:chOff x="3733920" y="2368440"/>
            <a:chExt cx="1296720" cy="1587600"/>
          </a:xfrm>
        </p:grpSpPr>
        <p:sp>
          <p:nvSpPr>
            <p:cNvPr id="105" name="Oval 15"/>
            <p:cNvSpPr/>
            <p:nvPr/>
          </p:nvSpPr>
          <p:spPr>
            <a:xfrm>
              <a:off x="3740040" y="2368440"/>
              <a:ext cx="520920" cy="2160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6"/>
            <p:cNvSpPr/>
            <p:nvPr/>
          </p:nvSpPr>
          <p:spPr>
            <a:xfrm>
              <a:off x="4502160" y="3664080"/>
              <a:ext cx="520560" cy="291960"/>
            </a:xfrm>
            <a:prstGeom prst="ellipse">
              <a:avLst/>
            </a:prstGeom>
            <a:solidFill>
              <a:srgbClr val="f4557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733920" y="2438280"/>
              <a:ext cx="1296720" cy="144936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817" h="913">
                  <a:moveTo>
                    <a:pt x="0" y="0"/>
                  </a:moveTo>
                  <a:lnTo>
                    <a:pt x="480" y="912"/>
                  </a:lnTo>
                  <a:lnTo>
                    <a:pt x="816" y="864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4864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5014440" y="317196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5319720" y="2668680"/>
            <a:ext cx="39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4176720" y="27925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4405320" y="317340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519120" y="4710240"/>
            <a:ext cx="8196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Свила добија вишак електрона а штапић пошто губи електроне постаће позитивно наелектри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05:31:01Z</dcterms:created>
  <dc:creator>Korisnik</dc:creator>
  <dc:description/>
  <dc:language>en-US</dc:language>
  <cp:lastModifiedBy>Snezana Jovanovic</cp:lastModifiedBy>
  <dcterms:modified xsi:type="dcterms:W3CDTF">2023-09-29T06:51:38Z</dcterms:modified>
  <cp:revision>158</cp:revision>
  <dc:subject/>
  <dc:title>Електростатика Кулонов закон Кулоновске интеракције</dc:title>
</cp:coreProperties>
</file>